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F55-8A13-4FB7-BACB-27303D0F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812-C887-40F8-BE04-7F813E5B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FB6-67F3-401B-B901-749EDC91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68B-16BA-402D-9967-07D5AB83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82E1-C1F0-4D95-B9AB-25EFEC31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4A5E-4826-45D1-8DCD-6F2AF120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4FDD-380D-47E7-AC45-CF7ECAEA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8189-036E-48CF-A07F-50A51B29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8EF9-508B-48AF-9107-25E6B01D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5059-893C-4EA8-937C-3068B25E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2C69-C9BC-4F56-9F9B-0E8AD23A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549-FAB9-4B24-9C01-E0612F84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E701-3E70-4F71-9FDC-BBDCE8F1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F7AE-2D66-4A15-AA85-197B4B55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9640-F7FA-43E5-8D3F-D43E6B5E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8DFB-C4C4-4EDC-AF1E-BFD4B696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4D44-00B8-40D8-A24F-957C52BF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2DE5B-0EF5-477D-9720-EF65E88F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A928D-E817-42DA-B591-73DC18A2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E47CC-BDE5-4558-ABAB-EACB33F6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06F4-A0F6-4DD9-9308-1FA2D649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A952F-71F7-4BEE-BC25-3C600846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4B7-E61F-401F-90D0-6FF94CE1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307FA-1D91-4BD8-BFA4-60F7DC38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2A73-1B13-4F2D-819C-6C342DB5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0E1F-E721-4C83-A9C0-F2FB0759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0FB47-4AAB-441B-A4ED-2F047508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BEC96-6CBD-4EC9-B356-0695F244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1BAF7-AF63-4646-B381-A8463023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C1299-D97E-431E-9011-E2C3FE61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039-4D57-494B-A15A-DD276BD7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63D-60FF-469E-8419-4E69449A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2AE-5D9E-4F47-8E4E-B76C8B96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7D8-EC52-4908-B5DA-E005FDFA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37A-64E9-4889-91C1-69FB7F2B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D36-04C7-41F7-B1DB-3D3C7D93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6" descr="THL_PEARL_RGB_large.jpg"/>
          <p:cNvPicPr/>
          <p:nvPr/>
        </p:nvPicPr>
        <p:blipFill>
          <a:blip r:embed="rId2"/>
          <a:stretch/>
        </p:blipFill>
        <p:spPr>
          <a:xfrm>
            <a:off x="7848720" y="5457960"/>
            <a:ext cx="1066680" cy="10191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PPT_kansilogo.jpg"/>
          <p:cNvPicPr/>
          <p:nvPr/>
        </p:nvPicPr>
        <p:blipFill>
          <a:blip r:embed="rId3"/>
          <a:stretch/>
        </p:blipFill>
        <p:spPr>
          <a:xfrm>
            <a:off x="2260440" y="533520"/>
            <a:ext cx="4807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9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457200" y="65955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25.11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1600200" y="659556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Kirjoita esityksen nimi tähän headr/footer valikos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8153280" y="65955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75BE-52C5-440C-9A9B-9C214AFC6C00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457164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381400" y="230040"/>
            <a:ext cx="525780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9720" bIns="972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National Public Health Institute, Fi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539640" y="6308640"/>
            <a:ext cx="3616200" cy="107640"/>
            <a:chOff x="539640" y="6308640"/>
            <a:chExt cx="3616200" cy="107640"/>
          </a:xfrm>
        </p:grpSpPr>
        <p:sp>
          <p:nvSpPr>
            <p:cNvPr id="46" name=""/>
            <p:cNvSpPr/>
            <p:nvPr/>
          </p:nvSpPr>
          <p:spPr>
            <a:xfrm>
              <a:off x="2144520" y="6308640"/>
              <a:ext cx="2011320" cy="107640"/>
            </a:xfrm>
            <a:custGeom>
              <a:avLst/>
              <a:gdLst/>
              <a:ahLst/>
              <a:rect l="l" t="t" r="r" b="b"/>
              <a:pathLst>
                <a:path w="12677" h="681">
                  <a:moveTo>
                    <a:pt x="371" y="94"/>
                  </a:moveTo>
                  <a:lnTo>
                    <a:pt x="371" y="12"/>
                  </a:lnTo>
                  <a:lnTo>
                    <a:pt x="0" y="12"/>
                  </a:lnTo>
                  <a:lnTo>
                    <a:pt x="0" y="669"/>
                  </a:lnTo>
                  <a:lnTo>
                    <a:pt x="95" y="669"/>
                  </a:lnTo>
                  <a:lnTo>
                    <a:pt x="95" y="369"/>
                  </a:lnTo>
                  <a:lnTo>
                    <a:pt x="346" y="369"/>
                  </a:lnTo>
                  <a:lnTo>
                    <a:pt x="346" y="285"/>
                  </a:lnTo>
                  <a:lnTo>
                    <a:pt x="95" y="285"/>
                  </a:lnTo>
                  <a:lnTo>
                    <a:pt x="95" y="94"/>
                  </a:lnTo>
                  <a:lnTo>
                    <a:pt x="371" y="94"/>
                  </a:lnTo>
                  <a:close/>
                  <a:moveTo>
                    <a:pt x="1104" y="340"/>
                  </a:moveTo>
                  <a:lnTo>
                    <a:pt x="1103" y="304"/>
                  </a:lnTo>
                  <a:lnTo>
                    <a:pt x="1099" y="270"/>
                  </a:lnTo>
                  <a:lnTo>
                    <a:pt x="1092" y="238"/>
                  </a:lnTo>
                  <a:lnTo>
                    <a:pt x="1083" y="207"/>
                  </a:lnTo>
                  <a:lnTo>
                    <a:pt x="1072" y="177"/>
                  </a:lnTo>
                  <a:lnTo>
                    <a:pt x="1058" y="149"/>
                  </a:lnTo>
                  <a:lnTo>
                    <a:pt x="1042" y="123"/>
                  </a:lnTo>
                  <a:lnTo>
                    <a:pt x="1023" y="98"/>
                  </a:lnTo>
                  <a:lnTo>
                    <a:pt x="1000" y="76"/>
                  </a:lnTo>
                  <a:lnTo>
                    <a:pt x="976" y="55"/>
                  </a:lnTo>
                  <a:lnTo>
                    <a:pt x="950" y="39"/>
                  </a:lnTo>
                  <a:lnTo>
                    <a:pt x="921" y="25"/>
                  </a:lnTo>
                  <a:lnTo>
                    <a:pt x="891" y="13"/>
                  </a:lnTo>
                  <a:lnTo>
                    <a:pt x="859" y="6"/>
                  </a:lnTo>
                  <a:lnTo>
                    <a:pt x="824" y="1"/>
                  </a:lnTo>
                  <a:lnTo>
                    <a:pt x="788" y="0"/>
                  </a:lnTo>
                  <a:lnTo>
                    <a:pt x="751" y="1"/>
                  </a:lnTo>
                  <a:lnTo>
                    <a:pt x="717" y="6"/>
                  </a:lnTo>
                  <a:lnTo>
                    <a:pt x="685" y="13"/>
                  </a:lnTo>
                  <a:lnTo>
                    <a:pt x="654" y="25"/>
                  </a:lnTo>
                  <a:lnTo>
                    <a:pt x="626" y="39"/>
                  </a:lnTo>
                  <a:lnTo>
                    <a:pt x="600" y="55"/>
                  </a:lnTo>
                  <a:lnTo>
                    <a:pt x="575" y="76"/>
                  </a:lnTo>
                  <a:lnTo>
                    <a:pt x="552" y="98"/>
                  </a:lnTo>
                  <a:lnTo>
                    <a:pt x="543" y="111"/>
                  </a:lnTo>
                  <a:lnTo>
                    <a:pt x="534" y="123"/>
                  </a:lnTo>
                  <a:lnTo>
                    <a:pt x="518" y="149"/>
                  </a:lnTo>
                  <a:lnTo>
                    <a:pt x="504" y="177"/>
                  </a:lnTo>
                  <a:lnTo>
                    <a:pt x="493" y="206"/>
                  </a:lnTo>
                  <a:lnTo>
                    <a:pt x="485" y="238"/>
                  </a:lnTo>
                  <a:lnTo>
                    <a:pt x="479" y="270"/>
                  </a:lnTo>
                  <a:lnTo>
                    <a:pt x="475" y="304"/>
                  </a:lnTo>
                  <a:lnTo>
                    <a:pt x="473" y="340"/>
                  </a:lnTo>
                  <a:lnTo>
                    <a:pt x="475" y="377"/>
                  </a:lnTo>
                  <a:lnTo>
                    <a:pt x="479" y="412"/>
                  </a:lnTo>
                  <a:lnTo>
                    <a:pt x="485" y="444"/>
                  </a:lnTo>
                  <a:lnTo>
                    <a:pt x="493" y="475"/>
                  </a:lnTo>
                  <a:lnTo>
                    <a:pt x="504" y="504"/>
                  </a:lnTo>
                  <a:lnTo>
                    <a:pt x="519" y="531"/>
                  </a:lnTo>
                  <a:lnTo>
                    <a:pt x="534" y="557"/>
                  </a:lnTo>
                  <a:lnTo>
                    <a:pt x="552" y="581"/>
                  </a:lnTo>
                  <a:lnTo>
                    <a:pt x="575" y="604"/>
                  </a:lnTo>
                  <a:lnTo>
                    <a:pt x="587" y="615"/>
                  </a:lnTo>
                  <a:lnTo>
                    <a:pt x="600" y="625"/>
                  </a:lnTo>
                  <a:lnTo>
                    <a:pt x="626" y="642"/>
                  </a:lnTo>
                  <a:lnTo>
                    <a:pt x="654" y="656"/>
                  </a:lnTo>
                  <a:lnTo>
                    <a:pt x="685" y="668"/>
                  </a:lnTo>
                  <a:lnTo>
                    <a:pt x="717" y="675"/>
                  </a:lnTo>
                  <a:lnTo>
                    <a:pt x="751" y="680"/>
                  </a:lnTo>
                  <a:lnTo>
                    <a:pt x="788" y="681"/>
                  </a:lnTo>
                  <a:lnTo>
                    <a:pt x="824" y="680"/>
                  </a:lnTo>
                  <a:lnTo>
                    <a:pt x="859" y="675"/>
                  </a:lnTo>
                  <a:lnTo>
                    <a:pt x="891" y="668"/>
                  </a:lnTo>
                  <a:lnTo>
                    <a:pt x="921" y="656"/>
                  </a:lnTo>
                  <a:lnTo>
                    <a:pt x="950" y="642"/>
                  </a:lnTo>
                  <a:lnTo>
                    <a:pt x="976" y="625"/>
                  </a:lnTo>
                  <a:lnTo>
                    <a:pt x="1000" y="604"/>
                  </a:lnTo>
                  <a:lnTo>
                    <a:pt x="1023" y="581"/>
                  </a:lnTo>
                  <a:lnTo>
                    <a:pt x="1033" y="569"/>
                  </a:lnTo>
                  <a:lnTo>
                    <a:pt x="1042" y="557"/>
                  </a:lnTo>
                  <a:lnTo>
                    <a:pt x="1058" y="531"/>
                  </a:lnTo>
                  <a:lnTo>
                    <a:pt x="1072" y="504"/>
                  </a:lnTo>
                  <a:lnTo>
                    <a:pt x="1083" y="474"/>
                  </a:lnTo>
                  <a:lnTo>
                    <a:pt x="1092" y="443"/>
                  </a:lnTo>
                  <a:lnTo>
                    <a:pt x="1099" y="411"/>
                  </a:lnTo>
                  <a:lnTo>
                    <a:pt x="1103" y="377"/>
                  </a:lnTo>
                  <a:lnTo>
                    <a:pt x="1104" y="340"/>
                  </a:lnTo>
                  <a:close/>
                  <a:moveTo>
                    <a:pt x="1004" y="340"/>
                  </a:moveTo>
                  <a:lnTo>
                    <a:pt x="1003" y="368"/>
                  </a:lnTo>
                  <a:lnTo>
                    <a:pt x="1001" y="394"/>
                  </a:lnTo>
                  <a:lnTo>
                    <a:pt x="996" y="419"/>
                  </a:lnTo>
                  <a:lnTo>
                    <a:pt x="990" y="442"/>
                  </a:lnTo>
                  <a:lnTo>
                    <a:pt x="982" y="465"/>
                  </a:lnTo>
                  <a:lnTo>
                    <a:pt x="972" y="485"/>
                  </a:lnTo>
                  <a:lnTo>
                    <a:pt x="961" y="505"/>
                  </a:lnTo>
                  <a:lnTo>
                    <a:pt x="948" y="523"/>
                  </a:lnTo>
                  <a:lnTo>
                    <a:pt x="933" y="541"/>
                  </a:lnTo>
                  <a:lnTo>
                    <a:pt x="915" y="556"/>
                  </a:lnTo>
                  <a:lnTo>
                    <a:pt x="898" y="568"/>
                  </a:lnTo>
                  <a:lnTo>
                    <a:pt x="878" y="579"/>
                  </a:lnTo>
                  <a:lnTo>
                    <a:pt x="858" y="587"/>
                  </a:lnTo>
                  <a:lnTo>
                    <a:pt x="835" y="593"/>
                  </a:lnTo>
                  <a:lnTo>
                    <a:pt x="813" y="596"/>
                  </a:lnTo>
                  <a:lnTo>
                    <a:pt x="788" y="597"/>
                  </a:lnTo>
                  <a:lnTo>
                    <a:pt x="763" y="596"/>
                  </a:lnTo>
                  <a:lnTo>
                    <a:pt x="740" y="593"/>
                  </a:lnTo>
                  <a:lnTo>
                    <a:pt x="729" y="590"/>
                  </a:lnTo>
                  <a:lnTo>
                    <a:pt x="718" y="587"/>
                  </a:lnTo>
                  <a:lnTo>
                    <a:pt x="698" y="579"/>
                  </a:lnTo>
                  <a:lnTo>
                    <a:pt x="678" y="568"/>
                  </a:lnTo>
                  <a:lnTo>
                    <a:pt x="660" y="556"/>
                  </a:lnTo>
                  <a:lnTo>
                    <a:pt x="652" y="549"/>
                  </a:lnTo>
                  <a:lnTo>
                    <a:pt x="644" y="541"/>
                  </a:lnTo>
                  <a:lnTo>
                    <a:pt x="628" y="523"/>
                  </a:lnTo>
                  <a:lnTo>
                    <a:pt x="615" y="505"/>
                  </a:lnTo>
                  <a:lnTo>
                    <a:pt x="603" y="485"/>
                  </a:lnTo>
                  <a:lnTo>
                    <a:pt x="593" y="465"/>
                  </a:lnTo>
                  <a:lnTo>
                    <a:pt x="585" y="442"/>
                  </a:lnTo>
                  <a:lnTo>
                    <a:pt x="579" y="419"/>
                  </a:lnTo>
                  <a:lnTo>
                    <a:pt x="574" y="394"/>
                  </a:lnTo>
                  <a:lnTo>
                    <a:pt x="572" y="368"/>
                  </a:lnTo>
                  <a:lnTo>
                    <a:pt x="571" y="340"/>
                  </a:lnTo>
                  <a:lnTo>
                    <a:pt x="572" y="313"/>
                  </a:lnTo>
                  <a:lnTo>
                    <a:pt x="574" y="288"/>
                  </a:lnTo>
                  <a:lnTo>
                    <a:pt x="579" y="263"/>
                  </a:lnTo>
                  <a:lnTo>
                    <a:pt x="585" y="240"/>
                  </a:lnTo>
                  <a:lnTo>
                    <a:pt x="593" y="217"/>
                  </a:lnTo>
                  <a:lnTo>
                    <a:pt x="603" y="197"/>
                  </a:lnTo>
                  <a:lnTo>
                    <a:pt x="615" y="176"/>
                  </a:lnTo>
                  <a:lnTo>
                    <a:pt x="628" y="159"/>
                  </a:lnTo>
                  <a:lnTo>
                    <a:pt x="644" y="140"/>
                  </a:lnTo>
                  <a:lnTo>
                    <a:pt x="661" y="126"/>
                  </a:lnTo>
                  <a:lnTo>
                    <a:pt x="678" y="113"/>
                  </a:lnTo>
                  <a:lnTo>
                    <a:pt x="698" y="102"/>
                  </a:lnTo>
                  <a:lnTo>
                    <a:pt x="718" y="94"/>
                  </a:lnTo>
                  <a:lnTo>
                    <a:pt x="740" y="88"/>
                  </a:lnTo>
                  <a:lnTo>
                    <a:pt x="763" y="85"/>
                  </a:lnTo>
                  <a:lnTo>
                    <a:pt x="788" y="84"/>
                  </a:lnTo>
                  <a:lnTo>
                    <a:pt x="813" y="85"/>
                  </a:lnTo>
                  <a:lnTo>
                    <a:pt x="835" y="88"/>
                  </a:lnTo>
                  <a:lnTo>
                    <a:pt x="857" y="94"/>
                  </a:lnTo>
                  <a:lnTo>
                    <a:pt x="877" y="102"/>
                  </a:lnTo>
                  <a:lnTo>
                    <a:pt x="897" y="113"/>
                  </a:lnTo>
                  <a:lnTo>
                    <a:pt x="915" y="126"/>
                  </a:lnTo>
                  <a:lnTo>
                    <a:pt x="931" y="140"/>
                  </a:lnTo>
                  <a:lnTo>
                    <a:pt x="948" y="159"/>
                  </a:lnTo>
                  <a:lnTo>
                    <a:pt x="961" y="176"/>
                  </a:lnTo>
                  <a:lnTo>
                    <a:pt x="972" y="197"/>
                  </a:lnTo>
                  <a:lnTo>
                    <a:pt x="982" y="217"/>
                  </a:lnTo>
                  <a:lnTo>
                    <a:pt x="990" y="240"/>
                  </a:lnTo>
                  <a:lnTo>
                    <a:pt x="996" y="263"/>
                  </a:lnTo>
                  <a:lnTo>
                    <a:pt x="1001" y="288"/>
                  </a:lnTo>
                  <a:lnTo>
                    <a:pt x="1003" y="313"/>
                  </a:lnTo>
                  <a:lnTo>
                    <a:pt x="1004" y="340"/>
                  </a:lnTo>
                  <a:close/>
                  <a:moveTo>
                    <a:pt x="1717" y="669"/>
                  </a:moveTo>
                  <a:lnTo>
                    <a:pt x="1717" y="585"/>
                  </a:lnTo>
                  <a:lnTo>
                    <a:pt x="1697" y="585"/>
                  </a:lnTo>
                  <a:lnTo>
                    <a:pt x="1689" y="584"/>
                  </a:lnTo>
                  <a:lnTo>
                    <a:pt x="1681" y="580"/>
                  </a:lnTo>
                  <a:lnTo>
                    <a:pt x="1671" y="572"/>
                  </a:lnTo>
                  <a:lnTo>
                    <a:pt x="1662" y="563"/>
                  </a:lnTo>
                  <a:lnTo>
                    <a:pt x="1644" y="536"/>
                  </a:lnTo>
                  <a:lnTo>
                    <a:pt x="1623" y="497"/>
                  </a:lnTo>
                  <a:lnTo>
                    <a:pt x="1598" y="444"/>
                  </a:lnTo>
                  <a:lnTo>
                    <a:pt x="1574" y="402"/>
                  </a:lnTo>
                  <a:lnTo>
                    <a:pt x="1552" y="370"/>
                  </a:lnTo>
                  <a:lnTo>
                    <a:pt x="1533" y="346"/>
                  </a:lnTo>
                  <a:lnTo>
                    <a:pt x="1564" y="331"/>
                  </a:lnTo>
                  <a:lnTo>
                    <a:pt x="1590" y="314"/>
                  </a:lnTo>
                  <a:lnTo>
                    <a:pt x="1613" y="296"/>
                  </a:lnTo>
                  <a:lnTo>
                    <a:pt x="1631" y="276"/>
                  </a:lnTo>
                  <a:lnTo>
                    <a:pt x="1645" y="255"/>
                  </a:lnTo>
                  <a:lnTo>
                    <a:pt x="1655" y="232"/>
                  </a:lnTo>
                  <a:lnTo>
                    <a:pt x="1661" y="208"/>
                  </a:lnTo>
                  <a:lnTo>
                    <a:pt x="1663" y="183"/>
                  </a:lnTo>
                  <a:lnTo>
                    <a:pt x="1662" y="164"/>
                  </a:lnTo>
                  <a:lnTo>
                    <a:pt x="1660" y="145"/>
                  </a:lnTo>
                  <a:lnTo>
                    <a:pt x="1655" y="128"/>
                  </a:lnTo>
                  <a:lnTo>
                    <a:pt x="1649" y="112"/>
                  </a:lnTo>
                  <a:lnTo>
                    <a:pt x="1641" y="97"/>
                  </a:lnTo>
                  <a:lnTo>
                    <a:pt x="1631" y="83"/>
                  </a:lnTo>
                  <a:lnTo>
                    <a:pt x="1619" y="70"/>
                  </a:lnTo>
                  <a:lnTo>
                    <a:pt x="1606" y="58"/>
                  </a:lnTo>
                  <a:lnTo>
                    <a:pt x="1591" y="47"/>
                  </a:lnTo>
                  <a:lnTo>
                    <a:pt x="1576" y="38"/>
                  </a:lnTo>
                  <a:lnTo>
                    <a:pt x="1559" y="30"/>
                  </a:lnTo>
                  <a:lnTo>
                    <a:pt x="1541" y="23"/>
                  </a:lnTo>
                  <a:lnTo>
                    <a:pt x="1523" y="18"/>
                  </a:lnTo>
                  <a:lnTo>
                    <a:pt x="1503" y="14"/>
                  </a:lnTo>
                  <a:lnTo>
                    <a:pt x="1461" y="12"/>
                  </a:lnTo>
                  <a:lnTo>
                    <a:pt x="1242" y="12"/>
                  </a:lnTo>
                  <a:lnTo>
                    <a:pt x="1242" y="669"/>
                  </a:lnTo>
                  <a:lnTo>
                    <a:pt x="1338" y="669"/>
                  </a:lnTo>
                  <a:lnTo>
                    <a:pt x="1338" y="378"/>
                  </a:lnTo>
                  <a:lnTo>
                    <a:pt x="1411" y="378"/>
                  </a:lnTo>
                  <a:lnTo>
                    <a:pt x="1423" y="379"/>
                  </a:lnTo>
                  <a:lnTo>
                    <a:pt x="1436" y="383"/>
                  </a:lnTo>
                  <a:lnTo>
                    <a:pt x="1448" y="389"/>
                  </a:lnTo>
                  <a:lnTo>
                    <a:pt x="1459" y="397"/>
                  </a:lnTo>
                  <a:lnTo>
                    <a:pt x="1470" y="408"/>
                  </a:lnTo>
                  <a:lnTo>
                    <a:pt x="1481" y="421"/>
                  </a:lnTo>
                  <a:lnTo>
                    <a:pt x="1491" y="436"/>
                  </a:lnTo>
                  <a:lnTo>
                    <a:pt x="1500" y="454"/>
                  </a:lnTo>
                  <a:lnTo>
                    <a:pt x="1568" y="593"/>
                  </a:lnTo>
                  <a:lnTo>
                    <a:pt x="1581" y="611"/>
                  </a:lnTo>
                  <a:lnTo>
                    <a:pt x="1594" y="627"/>
                  </a:lnTo>
                  <a:lnTo>
                    <a:pt x="1610" y="639"/>
                  </a:lnTo>
                  <a:lnTo>
                    <a:pt x="1625" y="650"/>
                  </a:lnTo>
                  <a:lnTo>
                    <a:pt x="1642" y="658"/>
                  </a:lnTo>
                  <a:lnTo>
                    <a:pt x="1659" y="665"/>
                  </a:lnTo>
                  <a:lnTo>
                    <a:pt x="1678" y="668"/>
                  </a:lnTo>
                  <a:lnTo>
                    <a:pt x="1697" y="669"/>
                  </a:lnTo>
                  <a:lnTo>
                    <a:pt x="1717" y="669"/>
                  </a:lnTo>
                  <a:close/>
                  <a:moveTo>
                    <a:pt x="1563" y="183"/>
                  </a:moveTo>
                  <a:lnTo>
                    <a:pt x="1561" y="205"/>
                  </a:lnTo>
                  <a:lnTo>
                    <a:pt x="1553" y="225"/>
                  </a:lnTo>
                  <a:lnTo>
                    <a:pt x="1548" y="234"/>
                  </a:lnTo>
                  <a:lnTo>
                    <a:pt x="1543" y="244"/>
                  </a:lnTo>
                  <a:lnTo>
                    <a:pt x="1536" y="253"/>
                  </a:lnTo>
                  <a:lnTo>
                    <a:pt x="1528" y="261"/>
                  </a:lnTo>
                  <a:lnTo>
                    <a:pt x="1509" y="276"/>
                  </a:lnTo>
                  <a:lnTo>
                    <a:pt x="1500" y="282"/>
                  </a:lnTo>
                  <a:lnTo>
                    <a:pt x="1490" y="287"/>
                  </a:lnTo>
                  <a:lnTo>
                    <a:pt x="1468" y="293"/>
                  </a:lnTo>
                  <a:lnTo>
                    <a:pt x="1445" y="295"/>
                  </a:lnTo>
                  <a:lnTo>
                    <a:pt x="1338" y="295"/>
                  </a:lnTo>
                  <a:lnTo>
                    <a:pt x="1338" y="94"/>
                  </a:lnTo>
                  <a:lnTo>
                    <a:pt x="1445" y="94"/>
                  </a:lnTo>
                  <a:lnTo>
                    <a:pt x="1467" y="95"/>
                  </a:lnTo>
                  <a:lnTo>
                    <a:pt x="1489" y="99"/>
                  </a:lnTo>
                  <a:lnTo>
                    <a:pt x="1507" y="106"/>
                  </a:lnTo>
                  <a:lnTo>
                    <a:pt x="1526" y="117"/>
                  </a:lnTo>
                  <a:lnTo>
                    <a:pt x="1541" y="130"/>
                  </a:lnTo>
                  <a:lnTo>
                    <a:pt x="1553" y="145"/>
                  </a:lnTo>
                  <a:lnTo>
                    <a:pt x="1560" y="164"/>
                  </a:lnTo>
                  <a:lnTo>
                    <a:pt x="1563" y="183"/>
                  </a:lnTo>
                  <a:close/>
                  <a:moveTo>
                    <a:pt x="2684" y="669"/>
                  </a:moveTo>
                  <a:lnTo>
                    <a:pt x="2684" y="12"/>
                  </a:lnTo>
                  <a:lnTo>
                    <a:pt x="2586" y="12"/>
                  </a:lnTo>
                  <a:lnTo>
                    <a:pt x="2586" y="281"/>
                  </a:lnTo>
                  <a:lnTo>
                    <a:pt x="2269" y="281"/>
                  </a:lnTo>
                  <a:lnTo>
                    <a:pt x="2269" y="12"/>
                  </a:lnTo>
                  <a:lnTo>
                    <a:pt x="2173" y="12"/>
                  </a:lnTo>
                  <a:lnTo>
                    <a:pt x="2173" y="669"/>
                  </a:lnTo>
                  <a:lnTo>
                    <a:pt x="2269" y="669"/>
                  </a:lnTo>
                  <a:lnTo>
                    <a:pt x="2269" y="365"/>
                  </a:lnTo>
                  <a:lnTo>
                    <a:pt x="2586" y="365"/>
                  </a:lnTo>
                  <a:lnTo>
                    <a:pt x="2586" y="669"/>
                  </a:lnTo>
                  <a:lnTo>
                    <a:pt x="2684" y="669"/>
                  </a:lnTo>
                  <a:close/>
                  <a:moveTo>
                    <a:pt x="3237" y="94"/>
                  </a:moveTo>
                  <a:lnTo>
                    <a:pt x="3237" y="12"/>
                  </a:lnTo>
                  <a:lnTo>
                    <a:pt x="2867" y="12"/>
                  </a:lnTo>
                  <a:lnTo>
                    <a:pt x="2867" y="669"/>
                  </a:lnTo>
                  <a:lnTo>
                    <a:pt x="3235" y="669"/>
                  </a:lnTo>
                  <a:lnTo>
                    <a:pt x="3235" y="585"/>
                  </a:lnTo>
                  <a:lnTo>
                    <a:pt x="2962" y="585"/>
                  </a:lnTo>
                  <a:lnTo>
                    <a:pt x="2962" y="369"/>
                  </a:lnTo>
                  <a:lnTo>
                    <a:pt x="3212" y="369"/>
                  </a:lnTo>
                  <a:lnTo>
                    <a:pt x="3212" y="285"/>
                  </a:lnTo>
                  <a:lnTo>
                    <a:pt x="2962" y="285"/>
                  </a:lnTo>
                  <a:lnTo>
                    <a:pt x="2962" y="94"/>
                  </a:lnTo>
                  <a:lnTo>
                    <a:pt x="3237" y="94"/>
                  </a:lnTo>
                  <a:close/>
                  <a:moveTo>
                    <a:pt x="3985" y="669"/>
                  </a:moveTo>
                  <a:lnTo>
                    <a:pt x="3698" y="12"/>
                  </a:lnTo>
                  <a:lnTo>
                    <a:pt x="3607" y="12"/>
                  </a:lnTo>
                  <a:lnTo>
                    <a:pt x="3320" y="669"/>
                  </a:lnTo>
                  <a:lnTo>
                    <a:pt x="3423" y="669"/>
                  </a:lnTo>
                  <a:lnTo>
                    <a:pt x="3491" y="501"/>
                  </a:lnTo>
                  <a:lnTo>
                    <a:pt x="3814" y="501"/>
                  </a:lnTo>
                  <a:lnTo>
                    <a:pt x="3882" y="669"/>
                  </a:lnTo>
                  <a:lnTo>
                    <a:pt x="3985" y="669"/>
                  </a:lnTo>
                  <a:close/>
                  <a:moveTo>
                    <a:pt x="3783" y="425"/>
                  </a:moveTo>
                  <a:lnTo>
                    <a:pt x="3523" y="425"/>
                  </a:lnTo>
                  <a:lnTo>
                    <a:pt x="3653" y="102"/>
                  </a:lnTo>
                  <a:lnTo>
                    <a:pt x="3783" y="425"/>
                  </a:lnTo>
                  <a:close/>
                  <a:moveTo>
                    <a:pt x="4455" y="669"/>
                  </a:moveTo>
                  <a:lnTo>
                    <a:pt x="4455" y="585"/>
                  </a:lnTo>
                  <a:lnTo>
                    <a:pt x="4186" y="585"/>
                  </a:lnTo>
                  <a:lnTo>
                    <a:pt x="4186" y="12"/>
                  </a:lnTo>
                  <a:lnTo>
                    <a:pt x="4090" y="12"/>
                  </a:lnTo>
                  <a:lnTo>
                    <a:pt x="4090" y="669"/>
                  </a:lnTo>
                  <a:lnTo>
                    <a:pt x="4455" y="669"/>
                  </a:lnTo>
                  <a:close/>
                  <a:moveTo>
                    <a:pt x="4996" y="94"/>
                  </a:moveTo>
                  <a:lnTo>
                    <a:pt x="4996" y="12"/>
                  </a:lnTo>
                  <a:lnTo>
                    <a:pt x="4500" y="12"/>
                  </a:lnTo>
                  <a:lnTo>
                    <a:pt x="4500" y="94"/>
                  </a:lnTo>
                  <a:lnTo>
                    <a:pt x="4700" y="94"/>
                  </a:lnTo>
                  <a:lnTo>
                    <a:pt x="4700" y="669"/>
                  </a:lnTo>
                  <a:lnTo>
                    <a:pt x="4796" y="669"/>
                  </a:lnTo>
                  <a:lnTo>
                    <a:pt x="4796" y="94"/>
                  </a:lnTo>
                  <a:lnTo>
                    <a:pt x="4996" y="94"/>
                  </a:lnTo>
                  <a:close/>
                  <a:moveTo>
                    <a:pt x="5619" y="669"/>
                  </a:moveTo>
                  <a:lnTo>
                    <a:pt x="5619" y="12"/>
                  </a:lnTo>
                  <a:lnTo>
                    <a:pt x="5522" y="12"/>
                  </a:lnTo>
                  <a:lnTo>
                    <a:pt x="5522" y="281"/>
                  </a:lnTo>
                  <a:lnTo>
                    <a:pt x="5203" y="281"/>
                  </a:lnTo>
                  <a:lnTo>
                    <a:pt x="5203" y="12"/>
                  </a:lnTo>
                  <a:lnTo>
                    <a:pt x="5108" y="12"/>
                  </a:lnTo>
                  <a:lnTo>
                    <a:pt x="5108" y="669"/>
                  </a:lnTo>
                  <a:lnTo>
                    <a:pt x="5203" y="669"/>
                  </a:lnTo>
                  <a:lnTo>
                    <a:pt x="5203" y="365"/>
                  </a:lnTo>
                  <a:lnTo>
                    <a:pt x="5522" y="365"/>
                  </a:lnTo>
                  <a:lnTo>
                    <a:pt x="5522" y="669"/>
                  </a:lnTo>
                  <a:lnTo>
                    <a:pt x="5619" y="669"/>
                  </a:lnTo>
                  <a:close/>
                  <a:moveTo>
                    <a:pt x="6721" y="669"/>
                  </a:moveTo>
                  <a:lnTo>
                    <a:pt x="6434" y="12"/>
                  </a:lnTo>
                  <a:lnTo>
                    <a:pt x="6342" y="12"/>
                  </a:lnTo>
                  <a:lnTo>
                    <a:pt x="6056" y="669"/>
                  </a:lnTo>
                  <a:lnTo>
                    <a:pt x="6159" y="669"/>
                  </a:lnTo>
                  <a:lnTo>
                    <a:pt x="6227" y="501"/>
                  </a:lnTo>
                  <a:lnTo>
                    <a:pt x="6549" y="501"/>
                  </a:lnTo>
                  <a:lnTo>
                    <a:pt x="6617" y="669"/>
                  </a:lnTo>
                  <a:lnTo>
                    <a:pt x="6721" y="669"/>
                  </a:lnTo>
                  <a:close/>
                  <a:moveTo>
                    <a:pt x="6519" y="425"/>
                  </a:moveTo>
                  <a:lnTo>
                    <a:pt x="6258" y="425"/>
                  </a:lnTo>
                  <a:lnTo>
                    <a:pt x="6388" y="102"/>
                  </a:lnTo>
                  <a:lnTo>
                    <a:pt x="6519" y="425"/>
                  </a:lnTo>
                  <a:close/>
                  <a:moveTo>
                    <a:pt x="7337" y="669"/>
                  </a:moveTo>
                  <a:lnTo>
                    <a:pt x="7337" y="12"/>
                  </a:lnTo>
                  <a:lnTo>
                    <a:pt x="7240" y="12"/>
                  </a:lnTo>
                  <a:lnTo>
                    <a:pt x="7240" y="538"/>
                  </a:lnTo>
                  <a:lnTo>
                    <a:pt x="7236" y="538"/>
                  </a:lnTo>
                  <a:lnTo>
                    <a:pt x="6950" y="12"/>
                  </a:lnTo>
                  <a:lnTo>
                    <a:pt x="6825" y="12"/>
                  </a:lnTo>
                  <a:lnTo>
                    <a:pt x="6825" y="669"/>
                  </a:lnTo>
                  <a:lnTo>
                    <a:pt x="6922" y="669"/>
                  </a:lnTo>
                  <a:lnTo>
                    <a:pt x="6922" y="142"/>
                  </a:lnTo>
                  <a:lnTo>
                    <a:pt x="6925" y="142"/>
                  </a:lnTo>
                  <a:lnTo>
                    <a:pt x="7212" y="669"/>
                  </a:lnTo>
                  <a:lnTo>
                    <a:pt x="7337" y="669"/>
                  </a:lnTo>
                  <a:close/>
                  <a:moveTo>
                    <a:pt x="8056" y="343"/>
                  </a:moveTo>
                  <a:lnTo>
                    <a:pt x="8055" y="309"/>
                  </a:lnTo>
                  <a:lnTo>
                    <a:pt x="8051" y="277"/>
                  </a:lnTo>
                  <a:lnTo>
                    <a:pt x="8044" y="246"/>
                  </a:lnTo>
                  <a:lnTo>
                    <a:pt x="8034" y="216"/>
                  </a:lnTo>
                  <a:lnTo>
                    <a:pt x="8022" y="188"/>
                  </a:lnTo>
                  <a:lnTo>
                    <a:pt x="8008" y="161"/>
                  </a:lnTo>
                  <a:lnTo>
                    <a:pt x="7990" y="135"/>
                  </a:lnTo>
                  <a:lnTo>
                    <a:pt x="7970" y="111"/>
                  </a:lnTo>
                  <a:lnTo>
                    <a:pt x="7947" y="88"/>
                  </a:lnTo>
                  <a:lnTo>
                    <a:pt x="7923" y="68"/>
                  </a:lnTo>
                  <a:lnTo>
                    <a:pt x="7896" y="51"/>
                  </a:lnTo>
                  <a:lnTo>
                    <a:pt x="7868" y="37"/>
                  </a:lnTo>
                  <a:lnTo>
                    <a:pt x="7839" y="26"/>
                  </a:lnTo>
                  <a:lnTo>
                    <a:pt x="7808" y="18"/>
                  </a:lnTo>
                  <a:lnTo>
                    <a:pt x="7775" y="13"/>
                  </a:lnTo>
                  <a:lnTo>
                    <a:pt x="7740" y="12"/>
                  </a:lnTo>
                  <a:lnTo>
                    <a:pt x="7509" y="12"/>
                  </a:lnTo>
                  <a:lnTo>
                    <a:pt x="7509" y="669"/>
                  </a:lnTo>
                  <a:lnTo>
                    <a:pt x="7740" y="669"/>
                  </a:lnTo>
                  <a:lnTo>
                    <a:pt x="7775" y="668"/>
                  </a:lnTo>
                  <a:lnTo>
                    <a:pt x="7808" y="663"/>
                  </a:lnTo>
                  <a:lnTo>
                    <a:pt x="7839" y="655"/>
                  </a:lnTo>
                  <a:lnTo>
                    <a:pt x="7868" y="645"/>
                  </a:lnTo>
                  <a:lnTo>
                    <a:pt x="7896" y="631"/>
                  </a:lnTo>
                  <a:lnTo>
                    <a:pt x="7923" y="614"/>
                  </a:lnTo>
                  <a:lnTo>
                    <a:pt x="7947" y="595"/>
                  </a:lnTo>
                  <a:lnTo>
                    <a:pt x="7970" y="572"/>
                  </a:lnTo>
                  <a:lnTo>
                    <a:pt x="7990" y="549"/>
                  </a:lnTo>
                  <a:lnTo>
                    <a:pt x="8008" y="523"/>
                  </a:lnTo>
                  <a:lnTo>
                    <a:pt x="8022" y="498"/>
                  </a:lnTo>
                  <a:lnTo>
                    <a:pt x="8034" y="469"/>
                  </a:lnTo>
                  <a:lnTo>
                    <a:pt x="8044" y="440"/>
                  </a:lnTo>
                  <a:lnTo>
                    <a:pt x="8051" y="409"/>
                  </a:lnTo>
                  <a:lnTo>
                    <a:pt x="8055" y="377"/>
                  </a:lnTo>
                  <a:lnTo>
                    <a:pt x="8056" y="343"/>
                  </a:lnTo>
                  <a:close/>
                  <a:moveTo>
                    <a:pt x="7961" y="343"/>
                  </a:moveTo>
                  <a:lnTo>
                    <a:pt x="7960" y="368"/>
                  </a:lnTo>
                  <a:lnTo>
                    <a:pt x="7956" y="391"/>
                  </a:lnTo>
                  <a:lnTo>
                    <a:pt x="7952" y="415"/>
                  </a:lnTo>
                  <a:lnTo>
                    <a:pt x="7945" y="436"/>
                  </a:lnTo>
                  <a:lnTo>
                    <a:pt x="7937" y="457"/>
                  </a:lnTo>
                  <a:lnTo>
                    <a:pt x="7927" y="476"/>
                  </a:lnTo>
                  <a:lnTo>
                    <a:pt x="7914" y="496"/>
                  </a:lnTo>
                  <a:lnTo>
                    <a:pt x="7900" y="513"/>
                  </a:lnTo>
                  <a:lnTo>
                    <a:pt x="7884" y="530"/>
                  </a:lnTo>
                  <a:lnTo>
                    <a:pt x="7866" y="545"/>
                  </a:lnTo>
                  <a:lnTo>
                    <a:pt x="7849" y="557"/>
                  </a:lnTo>
                  <a:lnTo>
                    <a:pt x="7829" y="567"/>
                  </a:lnTo>
                  <a:lnTo>
                    <a:pt x="7809" y="574"/>
                  </a:lnTo>
                  <a:lnTo>
                    <a:pt x="7787" y="581"/>
                  </a:lnTo>
                  <a:lnTo>
                    <a:pt x="7765" y="584"/>
                  </a:lnTo>
                  <a:lnTo>
                    <a:pt x="7740" y="585"/>
                  </a:lnTo>
                  <a:lnTo>
                    <a:pt x="7605" y="585"/>
                  </a:lnTo>
                  <a:lnTo>
                    <a:pt x="7605" y="96"/>
                  </a:lnTo>
                  <a:lnTo>
                    <a:pt x="7740" y="96"/>
                  </a:lnTo>
                  <a:lnTo>
                    <a:pt x="7765" y="97"/>
                  </a:lnTo>
                  <a:lnTo>
                    <a:pt x="7787" y="100"/>
                  </a:lnTo>
                  <a:lnTo>
                    <a:pt x="7809" y="106"/>
                  </a:lnTo>
                  <a:lnTo>
                    <a:pt x="7829" y="115"/>
                  </a:lnTo>
                  <a:lnTo>
                    <a:pt x="7849" y="125"/>
                  </a:lnTo>
                  <a:lnTo>
                    <a:pt x="7866" y="138"/>
                  </a:lnTo>
                  <a:lnTo>
                    <a:pt x="7884" y="154"/>
                  </a:lnTo>
                  <a:lnTo>
                    <a:pt x="7900" y="171"/>
                  </a:lnTo>
                  <a:lnTo>
                    <a:pt x="7927" y="209"/>
                  </a:lnTo>
                  <a:lnTo>
                    <a:pt x="7937" y="229"/>
                  </a:lnTo>
                  <a:lnTo>
                    <a:pt x="7945" y="250"/>
                  </a:lnTo>
                  <a:lnTo>
                    <a:pt x="7952" y="272"/>
                  </a:lnTo>
                  <a:lnTo>
                    <a:pt x="7956" y="295"/>
                  </a:lnTo>
                  <a:lnTo>
                    <a:pt x="7960" y="318"/>
                  </a:lnTo>
                  <a:lnTo>
                    <a:pt x="7961" y="343"/>
                  </a:lnTo>
                  <a:close/>
                  <a:moveTo>
                    <a:pt x="9395" y="12"/>
                  </a:moveTo>
                  <a:lnTo>
                    <a:pt x="9294" y="12"/>
                  </a:lnTo>
                  <a:lnTo>
                    <a:pt x="9134" y="554"/>
                  </a:lnTo>
                  <a:lnTo>
                    <a:pt x="9126" y="554"/>
                  </a:lnTo>
                  <a:lnTo>
                    <a:pt x="8987" y="12"/>
                  </a:lnTo>
                  <a:lnTo>
                    <a:pt x="8858" y="12"/>
                  </a:lnTo>
                  <a:lnTo>
                    <a:pt x="8720" y="554"/>
                  </a:lnTo>
                  <a:lnTo>
                    <a:pt x="8713" y="554"/>
                  </a:lnTo>
                  <a:lnTo>
                    <a:pt x="8552" y="12"/>
                  </a:lnTo>
                  <a:lnTo>
                    <a:pt x="8450" y="12"/>
                  </a:lnTo>
                  <a:lnTo>
                    <a:pt x="8655" y="669"/>
                  </a:lnTo>
                  <a:lnTo>
                    <a:pt x="8776" y="669"/>
                  </a:lnTo>
                  <a:lnTo>
                    <a:pt x="8921" y="98"/>
                  </a:lnTo>
                  <a:lnTo>
                    <a:pt x="8925" y="98"/>
                  </a:lnTo>
                  <a:lnTo>
                    <a:pt x="9069" y="669"/>
                  </a:lnTo>
                  <a:lnTo>
                    <a:pt x="9190" y="669"/>
                  </a:lnTo>
                  <a:lnTo>
                    <a:pt x="9395" y="12"/>
                  </a:lnTo>
                  <a:close/>
                  <a:moveTo>
                    <a:pt x="9873" y="94"/>
                  </a:moveTo>
                  <a:lnTo>
                    <a:pt x="9873" y="12"/>
                  </a:lnTo>
                  <a:lnTo>
                    <a:pt x="9503" y="12"/>
                  </a:lnTo>
                  <a:lnTo>
                    <a:pt x="9503" y="669"/>
                  </a:lnTo>
                  <a:lnTo>
                    <a:pt x="9871" y="669"/>
                  </a:lnTo>
                  <a:lnTo>
                    <a:pt x="9871" y="585"/>
                  </a:lnTo>
                  <a:lnTo>
                    <a:pt x="9598" y="585"/>
                  </a:lnTo>
                  <a:lnTo>
                    <a:pt x="9598" y="369"/>
                  </a:lnTo>
                  <a:lnTo>
                    <a:pt x="9848" y="369"/>
                  </a:lnTo>
                  <a:lnTo>
                    <a:pt x="9848" y="285"/>
                  </a:lnTo>
                  <a:lnTo>
                    <a:pt x="9598" y="285"/>
                  </a:lnTo>
                  <a:lnTo>
                    <a:pt x="9598" y="94"/>
                  </a:lnTo>
                  <a:lnTo>
                    <a:pt x="9873" y="94"/>
                  </a:lnTo>
                  <a:close/>
                  <a:moveTo>
                    <a:pt x="10398" y="669"/>
                  </a:moveTo>
                  <a:lnTo>
                    <a:pt x="10398" y="585"/>
                  </a:lnTo>
                  <a:lnTo>
                    <a:pt x="10129" y="585"/>
                  </a:lnTo>
                  <a:lnTo>
                    <a:pt x="10129" y="12"/>
                  </a:lnTo>
                  <a:lnTo>
                    <a:pt x="10033" y="12"/>
                  </a:lnTo>
                  <a:lnTo>
                    <a:pt x="10033" y="669"/>
                  </a:lnTo>
                  <a:lnTo>
                    <a:pt x="10398" y="669"/>
                  </a:lnTo>
                  <a:close/>
                  <a:moveTo>
                    <a:pt x="10889" y="94"/>
                  </a:moveTo>
                  <a:lnTo>
                    <a:pt x="10889" y="12"/>
                  </a:lnTo>
                  <a:lnTo>
                    <a:pt x="10518" y="12"/>
                  </a:lnTo>
                  <a:lnTo>
                    <a:pt x="10518" y="669"/>
                  </a:lnTo>
                  <a:lnTo>
                    <a:pt x="10613" y="669"/>
                  </a:lnTo>
                  <a:lnTo>
                    <a:pt x="10613" y="369"/>
                  </a:lnTo>
                  <a:lnTo>
                    <a:pt x="10864" y="369"/>
                  </a:lnTo>
                  <a:lnTo>
                    <a:pt x="10864" y="285"/>
                  </a:lnTo>
                  <a:lnTo>
                    <a:pt x="10613" y="285"/>
                  </a:lnTo>
                  <a:lnTo>
                    <a:pt x="10613" y="94"/>
                  </a:lnTo>
                  <a:lnTo>
                    <a:pt x="10889" y="94"/>
                  </a:lnTo>
                  <a:close/>
                  <a:moveTo>
                    <a:pt x="11580" y="669"/>
                  </a:moveTo>
                  <a:lnTo>
                    <a:pt x="11292" y="12"/>
                  </a:lnTo>
                  <a:lnTo>
                    <a:pt x="11201" y="12"/>
                  </a:lnTo>
                  <a:lnTo>
                    <a:pt x="10915" y="669"/>
                  </a:lnTo>
                  <a:lnTo>
                    <a:pt x="11017" y="669"/>
                  </a:lnTo>
                  <a:lnTo>
                    <a:pt x="11085" y="501"/>
                  </a:lnTo>
                  <a:lnTo>
                    <a:pt x="11408" y="501"/>
                  </a:lnTo>
                  <a:lnTo>
                    <a:pt x="11476" y="669"/>
                  </a:lnTo>
                  <a:lnTo>
                    <a:pt x="11580" y="669"/>
                  </a:lnTo>
                  <a:close/>
                  <a:moveTo>
                    <a:pt x="11377" y="425"/>
                  </a:moveTo>
                  <a:lnTo>
                    <a:pt x="11117" y="425"/>
                  </a:lnTo>
                  <a:lnTo>
                    <a:pt x="11247" y="102"/>
                  </a:lnTo>
                  <a:lnTo>
                    <a:pt x="11377" y="425"/>
                  </a:lnTo>
                  <a:close/>
                  <a:moveTo>
                    <a:pt x="12168" y="669"/>
                  </a:moveTo>
                  <a:lnTo>
                    <a:pt x="12168" y="585"/>
                  </a:lnTo>
                  <a:lnTo>
                    <a:pt x="12148" y="585"/>
                  </a:lnTo>
                  <a:lnTo>
                    <a:pt x="12140" y="584"/>
                  </a:lnTo>
                  <a:lnTo>
                    <a:pt x="12131" y="580"/>
                  </a:lnTo>
                  <a:lnTo>
                    <a:pt x="12123" y="572"/>
                  </a:lnTo>
                  <a:lnTo>
                    <a:pt x="12113" y="563"/>
                  </a:lnTo>
                  <a:lnTo>
                    <a:pt x="12094" y="536"/>
                  </a:lnTo>
                  <a:lnTo>
                    <a:pt x="12074" y="497"/>
                  </a:lnTo>
                  <a:lnTo>
                    <a:pt x="12048" y="444"/>
                  </a:lnTo>
                  <a:lnTo>
                    <a:pt x="12024" y="402"/>
                  </a:lnTo>
                  <a:lnTo>
                    <a:pt x="12003" y="370"/>
                  </a:lnTo>
                  <a:lnTo>
                    <a:pt x="11983" y="346"/>
                  </a:lnTo>
                  <a:lnTo>
                    <a:pt x="12014" y="331"/>
                  </a:lnTo>
                  <a:lnTo>
                    <a:pt x="12041" y="314"/>
                  </a:lnTo>
                  <a:lnTo>
                    <a:pt x="12063" y="296"/>
                  </a:lnTo>
                  <a:lnTo>
                    <a:pt x="12082" y="276"/>
                  </a:lnTo>
                  <a:lnTo>
                    <a:pt x="12096" y="255"/>
                  </a:lnTo>
                  <a:lnTo>
                    <a:pt x="12105" y="232"/>
                  </a:lnTo>
                  <a:lnTo>
                    <a:pt x="12111" y="208"/>
                  </a:lnTo>
                  <a:lnTo>
                    <a:pt x="12113" y="183"/>
                  </a:lnTo>
                  <a:lnTo>
                    <a:pt x="12113" y="164"/>
                  </a:lnTo>
                  <a:lnTo>
                    <a:pt x="12110" y="145"/>
                  </a:lnTo>
                  <a:lnTo>
                    <a:pt x="12106" y="128"/>
                  </a:lnTo>
                  <a:lnTo>
                    <a:pt x="12100" y="112"/>
                  </a:lnTo>
                  <a:lnTo>
                    <a:pt x="12092" y="97"/>
                  </a:lnTo>
                  <a:lnTo>
                    <a:pt x="12082" y="83"/>
                  </a:lnTo>
                  <a:lnTo>
                    <a:pt x="12070" y="70"/>
                  </a:lnTo>
                  <a:lnTo>
                    <a:pt x="12056" y="58"/>
                  </a:lnTo>
                  <a:lnTo>
                    <a:pt x="12042" y="47"/>
                  </a:lnTo>
                  <a:lnTo>
                    <a:pt x="12026" y="38"/>
                  </a:lnTo>
                  <a:lnTo>
                    <a:pt x="12010" y="30"/>
                  </a:lnTo>
                  <a:lnTo>
                    <a:pt x="11992" y="23"/>
                  </a:lnTo>
                  <a:lnTo>
                    <a:pt x="11973" y="18"/>
                  </a:lnTo>
                  <a:lnTo>
                    <a:pt x="11954" y="14"/>
                  </a:lnTo>
                  <a:lnTo>
                    <a:pt x="11912" y="12"/>
                  </a:lnTo>
                  <a:lnTo>
                    <a:pt x="11692" y="12"/>
                  </a:lnTo>
                  <a:lnTo>
                    <a:pt x="11692" y="669"/>
                  </a:lnTo>
                  <a:lnTo>
                    <a:pt x="11789" y="669"/>
                  </a:lnTo>
                  <a:lnTo>
                    <a:pt x="11789" y="378"/>
                  </a:lnTo>
                  <a:lnTo>
                    <a:pt x="11861" y="378"/>
                  </a:lnTo>
                  <a:lnTo>
                    <a:pt x="11875" y="379"/>
                  </a:lnTo>
                  <a:lnTo>
                    <a:pt x="11887" y="383"/>
                  </a:lnTo>
                  <a:lnTo>
                    <a:pt x="11898" y="389"/>
                  </a:lnTo>
                  <a:lnTo>
                    <a:pt x="11910" y="397"/>
                  </a:lnTo>
                  <a:lnTo>
                    <a:pt x="11921" y="408"/>
                  </a:lnTo>
                  <a:lnTo>
                    <a:pt x="11931" y="421"/>
                  </a:lnTo>
                  <a:lnTo>
                    <a:pt x="11941" y="436"/>
                  </a:lnTo>
                  <a:lnTo>
                    <a:pt x="11951" y="454"/>
                  </a:lnTo>
                  <a:lnTo>
                    <a:pt x="12018" y="593"/>
                  </a:lnTo>
                  <a:lnTo>
                    <a:pt x="12032" y="611"/>
                  </a:lnTo>
                  <a:lnTo>
                    <a:pt x="12045" y="627"/>
                  </a:lnTo>
                  <a:lnTo>
                    <a:pt x="12060" y="639"/>
                  </a:lnTo>
                  <a:lnTo>
                    <a:pt x="12076" y="650"/>
                  </a:lnTo>
                  <a:lnTo>
                    <a:pt x="12093" y="658"/>
                  </a:lnTo>
                  <a:lnTo>
                    <a:pt x="12110" y="665"/>
                  </a:lnTo>
                  <a:lnTo>
                    <a:pt x="12129" y="668"/>
                  </a:lnTo>
                  <a:lnTo>
                    <a:pt x="12148" y="669"/>
                  </a:lnTo>
                  <a:lnTo>
                    <a:pt x="12168" y="669"/>
                  </a:lnTo>
                  <a:close/>
                  <a:moveTo>
                    <a:pt x="12013" y="183"/>
                  </a:moveTo>
                  <a:lnTo>
                    <a:pt x="12011" y="205"/>
                  </a:lnTo>
                  <a:lnTo>
                    <a:pt x="12004" y="225"/>
                  </a:lnTo>
                  <a:lnTo>
                    <a:pt x="12000" y="234"/>
                  </a:lnTo>
                  <a:lnTo>
                    <a:pt x="11994" y="244"/>
                  </a:lnTo>
                  <a:lnTo>
                    <a:pt x="11986" y="253"/>
                  </a:lnTo>
                  <a:lnTo>
                    <a:pt x="11978" y="261"/>
                  </a:lnTo>
                  <a:lnTo>
                    <a:pt x="11960" y="276"/>
                  </a:lnTo>
                  <a:lnTo>
                    <a:pt x="11951" y="282"/>
                  </a:lnTo>
                  <a:lnTo>
                    <a:pt x="11940" y="287"/>
                  </a:lnTo>
                  <a:lnTo>
                    <a:pt x="11919" y="293"/>
                  </a:lnTo>
                  <a:lnTo>
                    <a:pt x="11896" y="295"/>
                  </a:lnTo>
                  <a:lnTo>
                    <a:pt x="11789" y="295"/>
                  </a:lnTo>
                  <a:lnTo>
                    <a:pt x="11789" y="94"/>
                  </a:lnTo>
                  <a:lnTo>
                    <a:pt x="11896" y="94"/>
                  </a:lnTo>
                  <a:lnTo>
                    <a:pt x="11919" y="95"/>
                  </a:lnTo>
                  <a:lnTo>
                    <a:pt x="11939" y="99"/>
                  </a:lnTo>
                  <a:lnTo>
                    <a:pt x="11959" y="106"/>
                  </a:lnTo>
                  <a:lnTo>
                    <a:pt x="11976" y="117"/>
                  </a:lnTo>
                  <a:lnTo>
                    <a:pt x="11993" y="130"/>
                  </a:lnTo>
                  <a:lnTo>
                    <a:pt x="12004" y="145"/>
                  </a:lnTo>
                  <a:lnTo>
                    <a:pt x="12011" y="164"/>
                  </a:lnTo>
                  <a:lnTo>
                    <a:pt x="12012" y="173"/>
                  </a:lnTo>
                  <a:lnTo>
                    <a:pt x="12013" y="183"/>
                  </a:lnTo>
                  <a:close/>
                  <a:moveTo>
                    <a:pt x="12677" y="94"/>
                  </a:moveTo>
                  <a:lnTo>
                    <a:pt x="12677" y="12"/>
                  </a:lnTo>
                  <a:lnTo>
                    <a:pt x="12307" y="12"/>
                  </a:lnTo>
                  <a:lnTo>
                    <a:pt x="12307" y="669"/>
                  </a:lnTo>
                  <a:lnTo>
                    <a:pt x="12675" y="669"/>
                  </a:lnTo>
                  <a:lnTo>
                    <a:pt x="12675" y="585"/>
                  </a:lnTo>
                  <a:lnTo>
                    <a:pt x="12402" y="585"/>
                  </a:lnTo>
                  <a:lnTo>
                    <a:pt x="12402" y="369"/>
                  </a:lnTo>
                  <a:lnTo>
                    <a:pt x="12652" y="369"/>
                  </a:lnTo>
                  <a:lnTo>
                    <a:pt x="12652" y="285"/>
                  </a:lnTo>
                  <a:lnTo>
                    <a:pt x="12402" y="285"/>
                  </a:lnTo>
                  <a:lnTo>
                    <a:pt x="12402" y="94"/>
                  </a:lnTo>
                  <a:lnTo>
                    <a:pt x="12677" y="94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640" y="6308640"/>
              <a:ext cx="1531800" cy="107640"/>
            </a:xfrm>
            <a:custGeom>
              <a:avLst/>
              <a:gdLst/>
              <a:ahLst/>
              <a:rect l="l" t="t" r="r" b="b"/>
              <a:pathLst>
                <a:path w="9651" h="683">
                  <a:moveTo>
                    <a:pt x="511" y="671"/>
                  </a:moveTo>
                  <a:lnTo>
                    <a:pt x="511" y="14"/>
                  </a:lnTo>
                  <a:lnTo>
                    <a:pt x="415" y="14"/>
                  </a:lnTo>
                  <a:lnTo>
                    <a:pt x="415" y="540"/>
                  </a:lnTo>
                  <a:lnTo>
                    <a:pt x="411" y="540"/>
                  </a:lnTo>
                  <a:lnTo>
                    <a:pt x="125" y="14"/>
                  </a:lnTo>
                  <a:lnTo>
                    <a:pt x="0" y="14"/>
                  </a:lnTo>
                  <a:lnTo>
                    <a:pt x="0" y="671"/>
                  </a:lnTo>
                  <a:lnTo>
                    <a:pt x="96" y="671"/>
                  </a:lnTo>
                  <a:lnTo>
                    <a:pt x="96" y="144"/>
                  </a:lnTo>
                  <a:lnTo>
                    <a:pt x="99" y="144"/>
                  </a:lnTo>
                  <a:lnTo>
                    <a:pt x="386" y="671"/>
                  </a:lnTo>
                  <a:lnTo>
                    <a:pt x="511" y="671"/>
                  </a:lnTo>
                  <a:close/>
                  <a:moveTo>
                    <a:pt x="1280" y="671"/>
                  </a:moveTo>
                  <a:lnTo>
                    <a:pt x="993" y="14"/>
                  </a:lnTo>
                  <a:lnTo>
                    <a:pt x="901" y="14"/>
                  </a:lnTo>
                  <a:lnTo>
                    <a:pt x="615" y="671"/>
                  </a:lnTo>
                  <a:lnTo>
                    <a:pt x="717" y="671"/>
                  </a:lnTo>
                  <a:lnTo>
                    <a:pt x="786" y="503"/>
                  </a:lnTo>
                  <a:lnTo>
                    <a:pt x="1108" y="503"/>
                  </a:lnTo>
                  <a:lnTo>
                    <a:pt x="1176" y="671"/>
                  </a:lnTo>
                  <a:lnTo>
                    <a:pt x="1280" y="671"/>
                  </a:lnTo>
                  <a:close/>
                  <a:moveTo>
                    <a:pt x="1078" y="427"/>
                  </a:moveTo>
                  <a:lnTo>
                    <a:pt x="817" y="427"/>
                  </a:lnTo>
                  <a:lnTo>
                    <a:pt x="947" y="104"/>
                  </a:lnTo>
                  <a:lnTo>
                    <a:pt x="1078" y="427"/>
                  </a:lnTo>
                  <a:close/>
                  <a:moveTo>
                    <a:pt x="1752" y="96"/>
                  </a:moveTo>
                  <a:lnTo>
                    <a:pt x="1752" y="14"/>
                  </a:lnTo>
                  <a:lnTo>
                    <a:pt x="1255" y="14"/>
                  </a:lnTo>
                  <a:lnTo>
                    <a:pt x="1255" y="96"/>
                  </a:lnTo>
                  <a:lnTo>
                    <a:pt x="1455" y="96"/>
                  </a:lnTo>
                  <a:lnTo>
                    <a:pt x="1455" y="671"/>
                  </a:lnTo>
                  <a:lnTo>
                    <a:pt x="1551" y="671"/>
                  </a:lnTo>
                  <a:lnTo>
                    <a:pt x="1551" y="96"/>
                  </a:lnTo>
                  <a:lnTo>
                    <a:pt x="1752" y="96"/>
                  </a:lnTo>
                  <a:close/>
                  <a:moveTo>
                    <a:pt x="1978" y="671"/>
                  </a:moveTo>
                  <a:lnTo>
                    <a:pt x="1978" y="14"/>
                  </a:lnTo>
                  <a:lnTo>
                    <a:pt x="1882" y="14"/>
                  </a:lnTo>
                  <a:lnTo>
                    <a:pt x="1882" y="671"/>
                  </a:lnTo>
                  <a:lnTo>
                    <a:pt x="1978" y="671"/>
                  </a:lnTo>
                  <a:close/>
                  <a:moveTo>
                    <a:pt x="2754" y="342"/>
                  </a:moveTo>
                  <a:lnTo>
                    <a:pt x="2752" y="306"/>
                  </a:lnTo>
                  <a:lnTo>
                    <a:pt x="2749" y="272"/>
                  </a:lnTo>
                  <a:lnTo>
                    <a:pt x="2743" y="240"/>
                  </a:lnTo>
                  <a:lnTo>
                    <a:pt x="2734" y="209"/>
                  </a:lnTo>
                  <a:lnTo>
                    <a:pt x="2722" y="179"/>
                  </a:lnTo>
                  <a:lnTo>
                    <a:pt x="2708" y="151"/>
                  </a:lnTo>
                  <a:lnTo>
                    <a:pt x="2693" y="125"/>
                  </a:lnTo>
                  <a:lnTo>
                    <a:pt x="2673" y="100"/>
                  </a:lnTo>
                  <a:lnTo>
                    <a:pt x="2651" y="78"/>
                  </a:lnTo>
                  <a:lnTo>
                    <a:pt x="2626" y="57"/>
                  </a:lnTo>
                  <a:lnTo>
                    <a:pt x="2601" y="40"/>
                  </a:lnTo>
                  <a:lnTo>
                    <a:pt x="2572" y="27"/>
                  </a:lnTo>
                  <a:lnTo>
                    <a:pt x="2541" y="15"/>
                  </a:lnTo>
                  <a:lnTo>
                    <a:pt x="2509" y="8"/>
                  </a:lnTo>
                  <a:lnTo>
                    <a:pt x="2475" y="3"/>
                  </a:lnTo>
                  <a:lnTo>
                    <a:pt x="2439" y="2"/>
                  </a:lnTo>
                  <a:lnTo>
                    <a:pt x="2402" y="3"/>
                  </a:lnTo>
                  <a:lnTo>
                    <a:pt x="2368" y="8"/>
                  </a:lnTo>
                  <a:lnTo>
                    <a:pt x="2335" y="15"/>
                  </a:lnTo>
                  <a:lnTo>
                    <a:pt x="2304" y="27"/>
                  </a:lnTo>
                  <a:lnTo>
                    <a:pt x="2277" y="40"/>
                  </a:lnTo>
                  <a:lnTo>
                    <a:pt x="2250" y="57"/>
                  </a:lnTo>
                  <a:lnTo>
                    <a:pt x="2226" y="78"/>
                  </a:lnTo>
                  <a:lnTo>
                    <a:pt x="2203" y="100"/>
                  </a:lnTo>
                  <a:lnTo>
                    <a:pt x="2194" y="113"/>
                  </a:lnTo>
                  <a:lnTo>
                    <a:pt x="2185" y="125"/>
                  </a:lnTo>
                  <a:lnTo>
                    <a:pt x="2168" y="150"/>
                  </a:lnTo>
                  <a:lnTo>
                    <a:pt x="2155" y="178"/>
                  </a:lnTo>
                  <a:lnTo>
                    <a:pt x="2144" y="208"/>
                  </a:lnTo>
                  <a:lnTo>
                    <a:pt x="2135" y="240"/>
                  </a:lnTo>
                  <a:lnTo>
                    <a:pt x="2129" y="272"/>
                  </a:lnTo>
                  <a:lnTo>
                    <a:pt x="2125" y="306"/>
                  </a:lnTo>
                  <a:lnTo>
                    <a:pt x="2124" y="342"/>
                  </a:lnTo>
                  <a:lnTo>
                    <a:pt x="2125" y="379"/>
                  </a:lnTo>
                  <a:lnTo>
                    <a:pt x="2129" y="413"/>
                  </a:lnTo>
                  <a:lnTo>
                    <a:pt x="2135" y="445"/>
                  </a:lnTo>
                  <a:lnTo>
                    <a:pt x="2144" y="477"/>
                  </a:lnTo>
                  <a:lnTo>
                    <a:pt x="2155" y="506"/>
                  </a:lnTo>
                  <a:lnTo>
                    <a:pt x="2169" y="533"/>
                  </a:lnTo>
                  <a:lnTo>
                    <a:pt x="2185" y="559"/>
                  </a:lnTo>
                  <a:lnTo>
                    <a:pt x="2203" y="583"/>
                  </a:lnTo>
                  <a:lnTo>
                    <a:pt x="2226" y="606"/>
                  </a:lnTo>
                  <a:lnTo>
                    <a:pt x="2238" y="617"/>
                  </a:lnTo>
                  <a:lnTo>
                    <a:pt x="2250" y="627"/>
                  </a:lnTo>
                  <a:lnTo>
                    <a:pt x="2277" y="644"/>
                  </a:lnTo>
                  <a:lnTo>
                    <a:pt x="2304" y="658"/>
                  </a:lnTo>
                  <a:lnTo>
                    <a:pt x="2335" y="669"/>
                  </a:lnTo>
                  <a:lnTo>
                    <a:pt x="2368" y="677"/>
                  </a:lnTo>
                  <a:lnTo>
                    <a:pt x="2402" y="681"/>
                  </a:lnTo>
                  <a:lnTo>
                    <a:pt x="2439" y="683"/>
                  </a:lnTo>
                  <a:lnTo>
                    <a:pt x="2475" y="681"/>
                  </a:lnTo>
                  <a:lnTo>
                    <a:pt x="2509" y="677"/>
                  </a:lnTo>
                  <a:lnTo>
                    <a:pt x="2541" y="669"/>
                  </a:lnTo>
                  <a:lnTo>
                    <a:pt x="2572" y="658"/>
                  </a:lnTo>
                  <a:lnTo>
                    <a:pt x="2601" y="644"/>
                  </a:lnTo>
                  <a:lnTo>
                    <a:pt x="2626" y="627"/>
                  </a:lnTo>
                  <a:lnTo>
                    <a:pt x="2651" y="606"/>
                  </a:lnTo>
                  <a:lnTo>
                    <a:pt x="2673" y="583"/>
                  </a:lnTo>
                  <a:lnTo>
                    <a:pt x="2684" y="571"/>
                  </a:lnTo>
                  <a:lnTo>
                    <a:pt x="2693" y="559"/>
                  </a:lnTo>
                  <a:lnTo>
                    <a:pt x="2708" y="533"/>
                  </a:lnTo>
                  <a:lnTo>
                    <a:pt x="2722" y="506"/>
                  </a:lnTo>
                  <a:lnTo>
                    <a:pt x="2734" y="476"/>
                  </a:lnTo>
                  <a:lnTo>
                    <a:pt x="2743" y="445"/>
                  </a:lnTo>
                  <a:lnTo>
                    <a:pt x="2749" y="413"/>
                  </a:lnTo>
                  <a:lnTo>
                    <a:pt x="2752" y="379"/>
                  </a:lnTo>
                  <a:lnTo>
                    <a:pt x="2754" y="342"/>
                  </a:lnTo>
                  <a:close/>
                  <a:moveTo>
                    <a:pt x="2655" y="342"/>
                  </a:moveTo>
                  <a:lnTo>
                    <a:pt x="2654" y="370"/>
                  </a:lnTo>
                  <a:lnTo>
                    <a:pt x="2651" y="395"/>
                  </a:lnTo>
                  <a:lnTo>
                    <a:pt x="2647" y="421"/>
                  </a:lnTo>
                  <a:lnTo>
                    <a:pt x="2641" y="444"/>
                  </a:lnTo>
                  <a:lnTo>
                    <a:pt x="2632" y="466"/>
                  </a:lnTo>
                  <a:lnTo>
                    <a:pt x="2623" y="487"/>
                  </a:lnTo>
                  <a:lnTo>
                    <a:pt x="2612" y="507"/>
                  </a:lnTo>
                  <a:lnTo>
                    <a:pt x="2599" y="525"/>
                  </a:lnTo>
                  <a:lnTo>
                    <a:pt x="2583" y="543"/>
                  </a:lnTo>
                  <a:lnTo>
                    <a:pt x="2566" y="558"/>
                  </a:lnTo>
                  <a:lnTo>
                    <a:pt x="2548" y="570"/>
                  </a:lnTo>
                  <a:lnTo>
                    <a:pt x="2529" y="581"/>
                  </a:lnTo>
                  <a:lnTo>
                    <a:pt x="2508" y="589"/>
                  </a:lnTo>
                  <a:lnTo>
                    <a:pt x="2486" y="594"/>
                  </a:lnTo>
                  <a:lnTo>
                    <a:pt x="2463" y="598"/>
                  </a:lnTo>
                  <a:lnTo>
                    <a:pt x="2439" y="599"/>
                  </a:lnTo>
                  <a:lnTo>
                    <a:pt x="2414" y="598"/>
                  </a:lnTo>
                  <a:lnTo>
                    <a:pt x="2391" y="594"/>
                  </a:lnTo>
                  <a:lnTo>
                    <a:pt x="2379" y="592"/>
                  </a:lnTo>
                  <a:lnTo>
                    <a:pt x="2369" y="589"/>
                  </a:lnTo>
                  <a:lnTo>
                    <a:pt x="2348" y="581"/>
                  </a:lnTo>
                  <a:lnTo>
                    <a:pt x="2329" y="570"/>
                  </a:lnTo>
                  <a:lnTo>
                    <a:pt x="2311" y="558"/>
                  </a:lnTo>
                  <a:lnTo>
                    <a:pt x="2302" y="551"/>
                  </a:lnTo>
                  <a:lnTo>
                    <a:pt x="2294" y="543"/>
                  </a:lnTo>
                  <a:lnTo>
                    <a:pt x="2279" y="525"/>
                  </a:lnTo>
                  <a:lnTo>
                    <a:pt x="2265" y="507"/>
                  </a:lnTo>
                  <a:lnTo>
                    <a:pt x="2253" y="487"/>
                  </a:lnTo>
                  <a:lnTo>
                    <a:pt x="2244" y="466"/>
                  </a:lnTo>
                  <a:lnTo>
                    <a:pt x="2236" y="444"/>
                  </a:lnTo>
                  <a:lnTo>
                    <a:pt x="2230" y="421"/>
                  </a:lnTo>
                  <a:lnTo>
                    <a:pt x="2225" y="395"/>
                  </a:lnTo>
                  <a:lnTo>
                    <a:pt x="2222" y="370"/>
                  </a:lnTo>
                  <a:lnTo>
                    <a:pt x="2221" y="342"/>
                  </a:lnTo>
                  <a:lnTo>
                    <a:pt x="2222" y="315"/>
                  </a:lnTo>
                  <a:lnTo>
                    <a:pt x="2225" y="290"/>
                  </a:lnTo>
                  <a:lnTo>
                    <a:pt x="2230" y="265"/>
                  </a:lnTo>
                  <a:lnTo>
                    <a:pt x="2236" y="242"/>
                  </a:lnTo>
                  <a:lnTo>
                    <a:pt x="2244" y="219"/>
                  </a:lnTo>
                  <a:lnTo>
                    <a:pt x="2253" y="199"/>
                  </a:lnTo>
                  <a:lnTo>
                    <a:pt x="2265" y="178"/>
                  </a:lnTo>
                  <a:lnTo>
                    <a:pt x="2279" y="160"/>
                  </a:lnTo>
                  <a:lnTo>
                    <a:pt x="2294" y="142"/>
                  </a:lnTo>
                  <a:lnTo>
                    <a:pt x="2312" y="127"/>
                  </a:lnTo>
                  <a:lnTo>
                    <a:pt x="2329" y="115"/>
                  </a:lnTo>
                  <a:lnTo>
                    <a:pt x="2348" y="104"/>
                  </a:lnTo>
                  <a:lnTo>
                    <a:pt x="2369" y="96"/>
                  </a:lnTo>
                  <a:lnTo>
                    <a:pt x="2391" y="90"/>
                  </a:lnTo>
                  <a:lnTo>
                    <a:pt x="2414" y="87"/>
                  </a:lnTo>
                  <a:lnTo>
                    <a:pt x="2439" y="86"/>
                  </a:lnTo>
                  <a:lnTo>
                    <a:pt x="2462" y="87"/>
                  </a:lnTo>
                  <a:lnTo>
                    <a:pt x="2486" y="90"/>
                  </a:lnTo>
                  <a:lnTo>
                    <a:pt x="2507" y="96"/>
                  </a:lnTo>
                  <a:lnTo>
                    <a:pt x="2528" y="104"/>
                  </a:lnTo>
                  <a:lnTo>
                    <a:pt x="2547" y="115"/>
                  </a:lnTo>
                  <a:lnTo>
                    <a:pt x="2566" y="127"/>
                  </a:lnTo>
                  <a:lnTo>
                    <a:pt x="2582" y="142"/>
                  </a:lnTo>
                  <a:lnTo>
                    <a:pt x="2599" y="160"/>
                  </a:lnTo>
                  <a:lnTo>
                    <a:pt x="2612" y="178"/>
                  </a:lnTo>
                  <a:lnTo>
                    <a:pt x="2623" y="199"/>
                  </a:lnTo>
                  <a:lnTo>
                    <a:pt x="2632" y="219"/>
                  </a:lnTo>
                  <a:lnTo>
                    <a:pt x="2641" y="242"/>
                  </a:lnTo>
                  <a:lnTo>
                    <a:pt x="2647" y="265"/>
                  </a:lnTo>
                  <a:lnTo>
                    <a:pt x="2651" y="290"/>
                  </a:lnTo>
                  <a:lnTo>
                    <a:pt x="2654" y="315"/>
                  </a:lnTo>
                  <a:lnTo>
                    <a:pt x="2655" y="342"/>
                  </a:lnTo>
                  <a:close/>
                  <a:moveTo>
                    <a:pt x="3411" y="671"/>
                  </a:moveTo>
                  <a:lnTo>
                    <a:pt x="3411" y="14"/>
                  </a:lnTo>
                  <a:lnTo>
                    <a:pt x="3315" y="14"/>
                  </a:lnTo>
                  <a:lnTo>
                    <a:pt x="3315" y="540"/>
                  </a:lnTo>
                  <a:lnTo>
                    <a:pt x="3311" y="540"/>
                  </a:lnTo>
                  <a:lnTo>
                    <a:pt x="3025" y="14"/>
                  </a:lnTo>
                  <a:lnTo>
                    <a:pt x="2901" y="14"/>
                  </a:lnTo>
                  <a:lnTo>
                    <a:pt x="2901" y="671"/>
                  </a:lnTo>
                  <a:lnTo>
                    <a:pt x="2997" y="671"/>
                  </a:lnTo>
                  <a:lnTo>
                    <a:pt x="2997" y="144"/>
                  </a:lnTo>
                  <a:lnTo>
                    <a:pt x="2999" y="144"/>
                  </a:lnTo>
                  <a:lnTo>
                    <a:pt x="3287" y="671"/>
                  </a:lnTo>
                  <a:lnTo>
                    <a:pt x="3411" y="671"/>
                  </a:lnTo>
                  <a:close/>
                  <a:moveTo>
                    <a:pt x="4180" y="671"/>
                  </a:moveTo>
                  <a:lnTo>
                    <a:pt x="3893" y="14"/>
                  </a:lnTo>
                  <a:lnTo>
                    <a:pt x="3801" y="14"/>
                  </a:lnTo>
                  <a:lnTo>
                    <a:pt x="3516" y="671"/>
                  </a:lnTo>
                  <a:lnTo>
                    <a:pt x="3618" y="671"/>
                  </a:lnTo>
                  <a:lnTo>
                    <a:pt x="3686" y="503"/>
                  </a:lnTo>
                  <a:lnTo>
                    <a:pt x="4008" y="503"/>
                  </a:lnTo>
                  <a:lnTo>
                    <a:pt x="4077" y="671"/>
                  </a:lnTo>
                  <a:lnTo>
                    <a:pt x="4180" y="671"/>
                  </a:lnTo>
                  <a:close/>
                  <a:moveTo>
                    <a:pt x="3978" y="427"/>
                  </a:moveTo>
                  <a:lnTo>
                    <a:pt x="3717" y="427"/>
                  </a:lnTo>
                  <a:lnTo>
                    <a:pt x="3848" y="104"/>
                  </a:lnTo>
                  <a:lnTo>
                    <a:pt x="3978" y="427"/>
                  </a:lnTo>
                  <a:close/>
                  <a:moveTo>
                    <a:pt x="4650" y="671"/>
                  </a:moveTo>
                  <a:lnTo>
                    <a:pt x="4650" y="587"/>
                  </a:lnTo>
                  <a:lnTo>
                    <a:pt x="4380" y="587"/>
                  </a:lnTo>
                  <a:lnTo>
                    <a:pt x="4380" y="14"/>
                  </a:lnTo>
                  <a:lnTo>
                    <a:pt x="4285" y="14"/>
                  </a:lnTo>
                  <a:lnTo>
                    <a:pt x="4285" y="671"/>
                  </a:lnTo>
                  <a:lnTo>
                    <a:pt x="4650" y="671"/>
                  </a:lnTo>
                  <a:close/>
                  <a:moveTo>
                    <a:pt x="5160" y="671"/>
                  </a:moveTo>
                  <a:lnTo>
                    <a:pt x="5160" y="14"/>
                  </a:lnTo>
                  <a:lnTo>
                    <a:pt x="5065" y="14"/>
                  </a:lnTo>
                  <a:lnTo>
                    <a:pt x="5065" y="671"/>
                  </a:lnTo>
                  <a:lnTo>
                    <a:pt x="5160" y="671"/>
                  </a:lnTo>
                  <a:close/>
                  <a:moveTo>
                    <a:pt x="5875" y="671"/>
                  </a:moveTo>
                  <a:lnTo>
                    <a:pt x="5875" y="14"/>
                  </a:lnTo>
                  <a:lnTo>
                    <a:pt x="5779" y="14"/>
                  </a:lnTo>
                  <a:lnTo>
                    <a:pt x="5779" y="540"/>
                  </a:lnTo>
                  <a:lnTo>
                    <a:pt x="5775" y="540"/>
                  </a:lnTo>
                  <a:lnTo>
                    <a:pt x="5489" y="14"/>
                  </a:lnTo>
                  <a:lnTo>
                    <a:pt x="5364" y="14"/>
                  </a:lnTo>
                  <a:lnTo>
                    <a:pt x="5364" y="671"/>
                  </a:lnTo>
                  <a:lnTo>
                    <a:pt x="5460" y="671"/>
                  </a:lnTo>
                  <a:lnTo>
                    <a:pt x="5460" y="144"/>
                  </a:lnTo>
                  <a:lnTo>
                    <a:pt x="5463" y="144"/>
                  </a:lnTo>
                  <a:lnTo>
                    <a:pt x="5750" y="671"/>
                  </a:lnTo>
                  <a:lnTo>
                    <a:pt x="5875" y="671"/>
                  </a:lnTo>
                  <a:close/>
                  <a:moveTo>
                    <a:pt x="6423" y="494"/>
                  </a:moveTo>
                  <a:lnTo>
                    <a:pt x="6420" y="470"/>
                  </a:lnTo>
                  <a:lnTo>
                    <a:pt x="6417" y="448"/>
                  </a:lnTo>
                  <a:lnTo>
                    <a:pt x="6414" y="438"/>
                  </a:lnTo>
                  <a:lnTo>
                    <a:pt x="6411" y="428"/>
                  </a:lnTo>
                  <a:lnTo>
                    <a:pt x="6404" y="408"/>
                  </a:lnTo>
                  <a:lnTo>
                    <a:pt x="6393" y="389"/>
                  </a:lnTo>
                  <a:lnTo>
                    <a:pt x="6380" y="371"/>
                  </a:lnTo>
                  <a:lnTo>
                    <a:pt x="6365" y="353"/>
                  </a:lnTo>
                  <a:lnTo>
                    <a:pt x="6349" y="338"/>
                  </a:lnTo>
                  <a:lnTo>
                    <a:pt x="6302" y="308"/>
                  </a:lnTo>
                  <a:lnTo>
                    <a:pt x="6211" y="257"/>
                  </a:lnTo>
                  <a:lnTo>
                    <a:pt x="6194" y="247"/>
                  </a:lnTo>
                  <a:lnTo>
                    <a:pt x="6179" y="236"/>
                  </a:lnTo>
                  <a:lnTo>
                    <a:pt x="6165" y="227"/>
                  </a:lnTo>
                  <a:lnTo>
                    <a:pt x="6155" y="217"/>
                  </a:lnTo>
                  <a:lnTo>
                    <a:pt x="6147" y="207"/>
                  </a:lnTo>
                  <a:lnTo>
                    <a:pt x="6142" y="198"/>
                  </a:lnTo>
                  <a:lnTo>
                    <a:pt x="6138" y="187"/>
                  </a:lnTo>
                  <a:lnTo>
                    <a:pt x="6137" y="178"/>
                  </a:lnTo>
                  <a:lnTo>
                    <a:pt x="6139" y="160"/>
                  </a:lnTo>
                  <a:lnTo>
                    <a:pt x="6142" y="151"/>
                  </a:lnTo>
                  <a:lnTo>
                    <a:pt x="6145" y="143"/>
                  </a:lnTo>
                  <a:lnTo>
                    <a:pt x="6155" y="128"/>
                  </a:lnTo>
                  <a:lnTo>
                    <a:pt x="6168" y="113"/>
                  </a:lnTo>
                  <a:lnTo>
                    <a:pt x="6186" y="100"/>
                  </a:lnTo>
                  <a:lnTo>
                    <a:pt x="6195" y="95"/>
                  </a:lnTo>
                  <a:lnTo>
                    <a:pt x="6205" y="91"/>
                  </a:lnTo>
                  <a:lnTo>
                    <a:pt x="6227" y="85"/>
                  </a:lnTo>
                  <a:lnTo>
                    <a:pt x="6251" y="84"/>
                  </a:lnTo>
                  <a:lnTo>
                    <a:pt x="6272" y="86"/>
                  </a:lnTo>
                  <a:lnTo>
                    <a:pt x="6301" y="91"/>
                  </a:lnTo>
                  <a:lnTo>
                    <a:pt x="6382" y="115"/>
                  </a:lnTo>
                  <a:lnTo>
                    <a:pt x="6398" y="23"/>
                  </a:lnTo>
                  <a:lnTo>
                    <a:pt x="6361" y="13"/>
                  </a:lnTo>
                  <a:lnTo>
                    <a:pt x="6324" y="6"/>
                  </a:lnTo>
                  <a:lnTo>
                    <a:pt x="6287" y="1"/>
                  </a:lnTo>
                  <a:lnTo>
                    <a:pt x="6251" y="0"/>
                  </a:lnTo>
                  <a:lnTo>
                    <a:pt x="6211" y="2"/>
                  </a:lnTo>
                  <a:lnTo>
                    <a:pt x="6192" y="6"/>
                  </a:lnTo>
                  <a:lnTo>
                    <a:pt x="6174" y="10"/>
                  </a:lnTo>
                  <a:lnTo>
                    <a:pt x="6140" y="23"/>
                  </a:lnTo>
                  <a:lnTo>
                    <a:pt x="6123" y="33"/>
                  </a:lnTo>
                  <a:lnTo>
                    <a:pt x="6108" y="43"/>
                  </a:lnTo>
                  <a:lnTo>
                    <a:pt x="6092" y="56"/>
                  </a:lnTo>
                  <a:lnTo>
                    <a:pt x="6077" y="71"/>
                  </a:lnTo>
                  <a:lnTo>
                    <a:pt x="6065" y="85"/>
                  </a:lnTo>
                  <a:lnTo>
                    <a:pt x="6060" y="93"/>
                  </a:lnTo>
                  <a:lnTo>
                    <a:pt x="6056" y="101"/>
                  </a:lnTo>
                  <a:lnTo>
                    <a:pt x="6049" y="119"/>
                  </a:lnTo>
                  <a:lnTo>
                    <a:pt x="6042" y="138"/>
                  </a:lnTo>
                  <a:lnTo>
                    <a:pt x="6039" y="158"/>
                  </a:lnTo>
                  <a:lnTo>
                    <a:pt x="6038" y="178"/>
                  </a:lnTo>
                  <a:lnTo>
                    <a:pt x="6040" y="202"/>
                  </a:lnTo>
                  <a:lnTo>
                    <a:pt x="6046" y="224"/>
                  </a:lnTo>
                  <a:lnTo>
                    <a:pt x="6056" y="246"/>
                  </a:lnTo>
                  <a:lnTo>
                    <a:pt x="6070" y="267"/>
                  </a:lnTo>
                  <a:lnTo>
                    <a:pt x="6087" y="287"/>
                  </a:lnTo>
                  <a:lnTo>
                    <a:pt x="6109" y="306"/>
                  </a:lnTo>
                  <a:lnTo>
                    <a:pt x="6134" y="325"/>
                  </a:lnTo>
                  <a:lnTo>
                    <a:pt x="6163" y="341"/>
                  </a:lnTo>
                  <a:lnTo>
                    <a:pt x="6198" y="360"/>
                  </a:lnTo>
                  <a:lnTo>
                    <a:pt x="6232" y="377"/>
                  </a:lnTo>
                  <a:lnTo>
                    <a:pt x="6252" y="389"/>
                  </a:lnTo>
                  <a:lnTo>
                    <a:pt x="6270" y="400"/>
                  </a:lnTo>
                  <a:lnTo>
                    <a:pt x="6284" y="412"/>
                  </a:lnTo>
                  <a:lnTo>
                    <a:pt x="6295" y="424"/>
                  </a:lnTo>
                  <a:lnTo>
                    <a:pt x="6302" y="431"/>
                  </a:lnTo>
                  <a:lnTo>
                    <a:pt x="6308" y="439"/>
                  </a:lnTo>
                  <a:lnTo>
                    <a:pt x="6317" y="457"/>
                  </a:lnTo>
                  <a:lnTo>
                    <a:pt x="6322" y="474"/>
                  </a:lnTo>
                  <a:lnTo>
                    <a:pt x="6324" y="494"/>
                  </a:lnTo>
                  <a:lnTo>
                    <a:pt x="6321" y="515"/>
                  </a:lnTo>
                  <a:lnTo>
                    <a:pt x="6314" y="535"/>
                  </a:lnTo>
                  <a:lnTo>
                    <a:pt x="6302" y="553"/>
                  </a:lnTo>
                  <a:lnTo>
                    <a:pt x="6293" y="561"/>
                  </a:lnTo>
                  <a:lnTo>
                    <a:pt x="6284" y="568"/>
                  </a:lnTo>
                  <a:lnTo>
                    <a:pt x="6263" y="582"/>
                  </a:lnTo>
                  <a:lnTo>
                    <a:pt x="6251" y="587"/>
                  </a:lnTo>
                  <a:lnTo>
                    <a:pt x="6239" y="591"/>
                  </a:lnTo>
                  <a:lnTo>
                    <a:pt x="6211" y="597"/>
                  </a:lnTo>
                  <a:lnTo>
                    <a:pt x="6182" y="599"/>
                  </a:lnTo>
                  <a:lnTo>
                    <a:pt x="6149" y="597"/>
                  </a:lnTo>
                  <a:lnTo>
                    <a:pt x="6117" y="591"/>
                  </a:lnTo>
                  <a:lnTo>
                    <a:pt x="6087" y="581"/>
                  </a:lnTo>
                  <a:lnTo>
                    <a:pt x="6060" y="566"/>
                  </a:lnTo>
                  <a:lnTo>
                    <a:pt x="6046" y="656"/>
                  </a:lnTo>
                  <a:lnTo>
                    <a:pt x="6088" y="671"/>
                  </a:lnTo>
                  <a:lnTo>
                    <a:pt x="6116" y="678"/>
                  </a:lnTo>
                  <a:lnTo>
                    <a:pt x="6128" y="680"/>
                  </a:lnTo>
                  <a:lnTo>
                    <a:pt x="6144" y="682"/>
                  </a:lnTo>
                  <a:lnTo>
                    <a:pt x="6182" y="683"/>
                  </a:lnTo>
                  <a:lnTo>
                    <a:pt x="6228" y="680"/>
                  </a:lnTo>
                  <a:lnTo>
                    <a:pt x="6249" y="677"/>
                  </a:lnTo>
                  <a:lnTo>
                    <a:pt x="6270" y="673"/>
                  </a:lnTo>
                  <a:lnTo>
                    <a:pt x="6289" y="667"/>
                  </a:lnTo>
                  <a:lnTo>
                    <a:pt x="6308" y="659"/>
                  </a:lnTo>
                  <a:lnTo>
                    <a:pt x="6325" y="651"/>
                  </a:lnTo>
                  <a:lnTo>
                    <a:pt x="6342" y="641"/>
                  </a:lnTo>
                  <a:lnTo>
                    <a:pt x="6361" y="628"/>
                  </a:lnTo>
                  <a:lnTo>
                    <a:pt x="6377" y="612"/>
                  </a:lnTo>
                  <a:lnTo>
                    <a:pt x="6391" y="596"/>
                  </a:lnTo>
                  <a:lnTo>
                    <a:pt x="6402" y="579"/>
                  </a:lnTo>
                  <a:lnTo>
                    <a:pt x="6411" y="559"/>
                  </a:lnTo>
                  <a:lnTo>
                    <a:pt x="6417" y="539"/>
                  </a:lnTo>
                  <a:lnTo>
                    <a:pt x="6420" y="517"/>
                  </a:lnTo>
                  <a:lnTo>
                    <a:pt x="6423" y="494"/>
                  </a:lnTo>
                  <a:close/>
                  <a:moveTo>
                    <a:pt x="7013" y="96"/>
                  </a:moveTo>
                  <a:lnTo>
                    <a:pt x="7013" y="14"/>
                  </a:lnTo>
                  <a:lnTo>
                    <a:pt x="6516" y="14"/>
                  </a:lnTo>
                  <a:lnTo>
                    <a:pt x="6516" y="96"/>
                  </a:lnTo>
                  <a:lnTo>
                    <a:pt x="6716" y="96"/>
                  </a:lnTo>
                  <a:lnTo>
                    <a:pt x="6716" y="671"/>
                  </a:lnTo>
                  <a:lnTo>
                    <a:pt x="6812" y="671"/>
                  </a:lnTo>
                  <a:lnTo>
                    <a:pt x="6812" y="96"/>
                  </a:lnTo>
                  <a:lnTo>
                    <a:pt x="7013" y="96"/>
                  </a:lnTo>
                  <a:close/>
                  <a:moveTo>
                    <a:pt x="7238" y="671"/>
                  </a:moveTo>
                  <a:lnTo>
                    <a:pt x="7238" y="14"/>
                  </a:lnTo>
                  <a:lnTo>
                    <a:pt x="7143" y="14"/>
                  </a:lnTo>
                  <a:lnTo>
                    <a:pt x="7143" y="671"/>
                  </a:lnTo>
                  <a:lnTo>
                    <a:pt x="7238" y="671"/>
                  </a:lnTo>
                  <a:close/>
                  <a:moveTo>
                    <a:pt x="7867" y="96"/>
                  </a:moveTo>
                  <a:lnTo>
                    <a:pt x="7867" y="14"/>
                  </a:lnTo>
                  <a:lnTo>
                    <a:pt x="7370" y="14"/>
                  </a:lnTo>
                  <a:lnTo>
                    <a:pt x="7370" y="96"/>
                  </a:lnTo>
                  <a:lnTo>
                    <a:pt x="7570" y="96"/>
                  </a:lnTo>
                  <a:lnTo>
                    <a:pt x="7570" y="671"/>
                  </a:lnTo>
                  <a:lnTo>
                    <a:pt x="7666" y="671"/>
                  </a:lnTo>
                  <a:lnTo>
                    <a:pt x="7666" y="96"/>
                  </a:lnTo>
                  <a:lnTo>
                    <a:pt x="7867" y="96"/>
                  </a:lnTo>
                  <a:close/>
                  <a:moveTo>
                    <a:pt x="8512" y="398"/>
                  </a:moveTo>
                  <a:lnTo>
                    <a:pt x="8512" y="14"/>
                  </a:lnTo>
                  <a:lnTo>
                    <a:pt x="8415" y="14"/>
                  </a:lnTo>
                  <a:lnTo>
                    <a:pt x="8415" y="414"/>
                  </a:lnTo>
                  <a:lnTo>
                    <a:pt x="8412" y="454"/>
                  </a:lnTo>
                  <a:lnTo>
                    <a:pt x="8405" y="488"/>
                  </a:lnTo>
                  <a:lnTo>
                    <a:pt x="8400" y="504"/>
                  </a:lnTo>
                  <a:lnTo>
                    <a:pt x="8393" y="519"/>
                  </a:lnTo>
                  <a:lnTo>
                    <a:pt x="8386" y="533"/>
                  </a:lnTo>
                  <a:lnTo>
                    <a:pt x="8377" y="546"/>
                  </a:lnTo>
                  <a:lnTo>
                    <a:pt x="8365" y="559"/>
                  </a:lnTo>
                  <a:lnTo>
                    <a:pt x="8353" y="569"/>
                  </a:lnTo>
                  <a:lnTo>
                    <a:pt x="8340" y="579"/>
                  </a:lnTo>
                  <a:lnTo>
                    <a:pt x="8325" y="586"/>
                  </a:lnTo>
                  <a:lnTo>
                    <a:pt x="8294" y="596"/>
                  </a:lnTo>
                  <a:lnTo>
                    <a:pt x="8275" y="598"/>
                  </a:lnTo>
                  <a:lnTo>
                    <a:pt x="8257" y="599"/>
                  </a:lnTo>
                  <a:lnTo>
                    <a:pt x="8220" y="596"/>
                  </a:lnTo>
                  <a:lnTo>
                    <a:pt x="8203" y="592"/>
                  </a:lnTo>
                  <a:lnTo>
                    <a:pt x="8188" y="586"/>
                  </a:lnTo>
                  <a:lnTo>
                    <a:pt x="8174" y="579"/>
                  </a:lnTo>
                  <a:lnTo>
                    <a:pt x="8160" y="569"/>
                  </a:lnTo>
                  <a:lnTo>
                    <a:pt x="8148" y="558"/>
                  </a:lnTo>
                  <a:lnTo>
                    <a:pt x="8137" y="546"/>
                  </a:lnTo>
                  <a:lnTo>
                    <a:pt x="8119" y="519"/>
                  </a:lnTo>
                  <a:lnTo>
                    <a:pt x="8112" y="504"/>
                  </a:lnTo>
                  <a:lnTo>
                    <a:pt x="8107" y="488"/>
                  </a:lnTo>
                  <a:lnTo>
                    <a:pt x="8102" y="471"/>
                  </a:lnTo>
                  <a:lnTo>
                    <a:pt x="8099" y="454"/>
                  </a:lnTo>
                  <a:lnTo>
                    <a:pt x="8098" y="434"/>
                  </a:lnTo>
                  <a:lnTo>
                    <a:pt x="8097" y="414"/>
                  </a:lnTo>
                  <a:lnTo>
                    <a:pt x="8097" y="14"/>
                  </a:lnTo>
                  <a:lnTo>
                    <a:pt x="8001" y="14"/>
                  </a:lnTo>
                  <a:lnTo>
                    <a:pt x="8001" y="398"/>
                  </a:lnTo>
                  <a:lnTo>
                    <a:pt x="8003" y="427"/>
                  </a:lnTo>
                  <a:lnTo>
                    <a:pt x="8005" y="456"/>
                  </a:lnTo>
                  <a:lnTo>
                    <a:pt x="8010" y="482"/>
                  </a:lnTo>
                  <a:lnTo>
                    <a:pt x="8016" y="508"/>
                  </a:lnTo>
                  <a:lnTo>
                    <a:pt x="8023" y="531"/>
                  </a:lnTo>
                  <a:lnTo>
                    <a:pt x="8033" y="554"/>
                  </a:lnTo>
                  <a:lnTo>
                    <a:pt x="8045" y="574"/>
                  </a:lnTo>
                  <a:lnTo>
                    <a:pt x="8057" y="594"/>
                  </a:lnTo>
                  <a:lnTo>
                    <a:pt x="8074" y="615"/>
                  </a:lnTo>
                  <a:lnTo>
                    <a:pt x="8095" y="633"/>
                  </a:lnTo>
                  <a:lnTo>
                    <a:pt x="8116" y="648"/>
                  </a:lnTo>
                  <a:lnTo>
                    <a:pt x="8129" y="655"/>
                  </a:lnTo>
                  <a:lnTo>
                    <a:pt x="8141" y="660"/>
                  </a:lnTo>
                  <a:lnTo>
                    <a:pt x="8166" y="671"/>
                  </a:lnTo>
                  <a:lnTo>
                    <a:pt x="8194" y="678"/>
                  </a:lnTo>
                  <a:lnTo>
                    <a:pt x="8224" y="682"/>
                  </a:lnTo>
                  <a:lnTo>
                    <a:pt x="8257" y="683"/>
                  </a:lnTo>
                  <a:lnTo>
                    <a:pt x="8288" y="682"/>
                  </a:lnTo>
                  <a:lnTo>
                    <a:pt x="8318" y="678"/>
                  </a:lnTo>
                  <a:lnTo>
                    <a:pt x="8346" y="671"/>
                  </a:lnTo>
                  <a:lnTo>
                    <a:pt x="8372" y="660"/>
                  </a:lnTo>
                  <a:lnTo>
                    <a:pt x="8396" y="648"/>
                  </a:lnTo>
                  <a:lnTo>
                    <a:pt x="8407" y="641"/>
                  </a:lnTo>
                  <a:lnTo>
                    <a:pt x="8417" y="633"/>
                  </a:lnTo>
                  <a:lnTo>
                    <a:pt x="8428" y="625"/>
                  </a:lnTo>
                  <a:lnTo>
                    <a:pt x="8438" y="615"/>
                  </a:lnTo>
                  <a:lnTo>
                    <a:pt x="8455" y="594"/>
                  </a:lnTo>
                  <a:lnTo>
                    <a:pt x="8469" y="574"/>
                  </a:lnTo>
                  <a:lnTo>
                    <a:pt x="8480" y="554"/>
                  </a:lnTo>
                  <a:lnTo>
                    <a:pt x="8490" y="531"/>
                  </a:lnTo>
                  <a:lnTo>
                    <a:pt x="8498" y="508"/>
                  </a:lnTo>
                  <a:lnTo>
                    <a:pt x="8505" y="482"/>
                  </a:lnTo>
                  <a:lnTo>
                    <a:pt x="8509" y="456"/>
                  </a:lnTo>
                  <a:lnTo>
                    <a:pt x="8512" y="427"/>
                  </a:lnTo>
                  <a:lnTo>
                    <a:pt x="8512" y="398"/>
                  </a:lnTo>
                  <a:close/>
                  <a:moveTo>
                    <a:pt x="9143" y="96"/>
                  </a:moveTo>
                  <a:lnTo>
                    <a:pt x="9143" y="14"/>
                  </a:lnTo>
                  <a:lnTo>
                    <a:pt x="8646" y="14"/>
                  </a:lnTo>
                  <a:lnTo>
                    <a:pt x="8646" y="96"/>
                  </a:lnTo>
                  <a:lnTo>
                    <a:pt x="8847" y="96"/>
                  </a:lnTo>
                  <a:lnTo>
                    <a:pt x="8847" y="671"/>
                  </a:lnTo>
                  <a:lnTo>
                    <a:pt x="8943" y="671"/>
                  </a:lnTo>
                  <a:lnTo>
                    <a:pt x="8943" y="96"/>
                  </a:lnTo>
                  <a:lnTo>
                    <a:pt x="9143" y="96"/>
                  </a:lnTo>
                  <a:close/>
                  <a:moveTo>
                    <a:pt x="9651" y="96"/>
                  </a:moveTo>
                  <a:lnTo>
                    <a:pt x="9651" y="14"/>
                  </a:lnTo>
                  <a:lnTo>
                    <a:pt x="9281" y="14"/>
                  </a:lnTo>
                  <a:lnTo>
                    <a:pt x="9281" y="671"/>
                  </a:lnTo>
                  <a:lnTo>
                    <a:pt x="9649" y="671"/>
                  </a:lnTo>
                  <a:lnTo>
                    <a:pt x="9649" y="587"/>
                  </a:lnTo>
                  <a:lnTo>
                    <a:pt x="9377" y="587"/>
                  </a:lnTo>
                  <a:lnTo>
                    <a:pt x="9377" y="371"/>
                  </a:lnTo>
                  <a:lnTo>
                    <a:pt x="9627" y="371"/>
                  </a:lnTo>
                  <a:lnTo>
                    <a:pt x="9627" y="287"/>
                  </a:lnTo>
                  <a:lnTo>
                    <a:pt x="9377" y="287"/>
                  </a:lnTo>
                  <a:lnTo>
                    <a:pt x="9377" y="96"/>
                  </a:lnTo>
                  <a:lnTo>
                    <a:pt x="9651" y="9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2C7C-8AE0-49CA-BAB3-B6155AEE07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241280" y="3951360"/>
            <a:ext cx="6661440" cy="198360"/>
            <a:chOff x="1241280" y="3951360"/>
            <a:chExt cx="6661440" cy="198360"/>
          </a:xfrm>
        </p:grpSpPr>
        <p:sp>
          <p:nvSpPr>
            <p:cNvPr id="92" name=""/>
            <p:cNvSpPr/>
            <p:nvPr/>
          </p:nvSpPr>
          <p:spPr>
            <a:xfrm>
              <a:off x="4195800" y="3951360"/>
              <a:ext cx="3706920" cy="198360"/>
            </a:xfrm>
            <a:custGeom>
              <a:avLst/>
              <a:gdLst/>
              <a:ahLst/>
              <a:rect l="l" t="t" r="r" b="b"/>
              <a:pathLst>
                <a:path w="2476" h="133">
                  <a:moveTo>
                    <a:pt x="72" y="18"/>
                  </a:moveTo>
                  <a:lnTo>
                    <a:pt x="72" y="2"/>
                  </a:lnTo>
                  <a:lnTo>
                    <a:pt x="0" y="2"/>
                  </a:lnTo>
                  <a:lnTo>
                    <a:pt x="0" y="130"/>
                  </a:lnTo>
                  <a:lnTo>
                    <a:pt x="18" y="130"/>
                  </a:lnTo>
                  <a:lnTo>
                    <a:pt x="18" y="72"/>
                  </a:lnTo>
                  <a:lnTo>
                    <a:pt x="67" y="72"/>
                  </a:lnTo>
                  <a:lnTo>
                    <a:pt x="67" y="55"/>
                  </a:lnTo>
                  <a:lnTo>
                    <a:pt x="18" y="55"/>
                  </a:lnTo>
                  <a:lnTo>
                    <a:pt x="18" y="18"/>
                  </a:lnTo>
                  <a:lnTo>
                    <a:pt x="72" y="18"/>
                  </a:lnTo>
                  <a:close/>
                  <a:moveTo>
                    <a:pt x="215" y="66"/>
                  </a:moveTo>
                  <a:lnTo>
                    <a:pt x="215" y="59"/>
                  </a:lnTo>
                  <a:lnTo>
                    <a:pt x="214" y="52"/>
                  </a:lnTo>
                  <a:lnTo>
                    <a:pt x="213" y="46"/>
                  </a:lnTo>
                  <a:lnTo>
                    <a:pt x="211" y="40"/>
                  </a:lnTo>
                  <a:lnTo>
                    <a:pt x="209" y="34"/>
                  </a:lnTo>
                  <a:lnTo>
                    <a:pt x="206" y="29"/>
                  </a:lnTo>
                  <a:lnTo>
                    <a:pt x="203" y="24"/>
                  </a:lnTo>
                  <a:lnTo>
                    <a:pt x="199" y="19"/>
                  </a:lnTo>
                  <a:lnTo>
                    <a:pt x="195" y="14"/>
                  </a:lnTo>
                  <a:lnTo>
                    <a:pt x="190" y="11"/>
                  </a:lnTo>
                  <a:lnTo>
                    <a:pt x="185" y="7"/>
                  </a:lnTo>
                  <a:lnTo>
                    <a:pt x="179" y="5"/>
                  </a:lnTo>
                  <a:lnTo>
                    <a:pt x="173" y="2"/>
                  </a:lnTo>
                  <a:lnTo>
                    <a:pt x="167" y="1"/>
                  </a:lnTo>
                  <a:lnTo>
                    <a:pt x="160" y="0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1"/>
                  </a:lnTo>
                  <a:lnTo>
                    <a:pt x="133" y="2"/>
                  </a:lnTo>
                  <a:lnTo>
                    <a:pt x="127" y="5"/>
                  </a:lnTo>
                  <a:lnTo>
                    <a:pt x="122" y="7"/>
                  </a:lnTo>
                  <a:lnTo>
                    <a:pt x="117" y="11"/>
                  </a:lnTo>
                  <a:lnTo>
                    <a:pt x="112" y="14"/>
                  </a:lnTo>
                  <a:lnTo>
                    <a:pt x="107" y="19"/>
                  </a:lnTo>
                  <a:lnTo>
                    <a:pt x="104" y="24"/>
                  </a:lnTo>
                  <a:lnTo>
                    <a:pt x="101" y="29"/>
                  </a:lnTo>
                  <a:lnTo>
                    <a:pt x="98" y="34"/>
                  </a:lnTo>
                  <a:lnTo>
                    <a:pt x="96" y="40"/>
                  </a:lnTo>
                  <a:lnTo>
                    <a:pt x="94" y="46"/>
                  </a:lnTo>
                  <a:lnTo>
                    <a:pt x="93" y="52"/>
                  </a:lnTo>
                  <a:lnTo>
                    <a:pt x="92" y="59"/>
                  </a:lnTo>
                  <a:lnTo>
                    <a:pt x="92" y="66"/>
                  </a:lnTo>
                  <a:lnTo>
                    <a:pt x="92" y="73"/>
                  </a:lnTo>
                  <a:lnTo>
                    <a:pt x="93" y="80"/>
                  </a:lnTo>
                  <a:lnTo>
                    <a:pt x="94" y="86"/>
                  </a:lnTo>
                  <a:lnTo>
                    <a:pt x="96" y="92"/>
                  </a:lnTo>
                  <a:lnTo>
                    <a:pt x="98" y="98"/>
                  </a:lnTo>
                  <a:lnTo>
                    <a:pt x="101" y="104"/>
                  </a:lnTo>
                  <a:lnTo>
                    <a:pt x="104" y="109"/>
                  </a:lnTo>
                  <a:lnTo>
                    <a:pt x="107" y="113"/>
                  </a:lnTo>
                  <a:lnTo>
                    <a:pt x="112" y="118"/>
                  </a:lnTo>
                  <a:lnTo>
                    <a:pt x="117" y="122"/>
                  </a:lnTo>
                  <a:lnTo>
                    <a:pt x="122" y="125"/>
                  </a:lnTo>
                  <a:lnTo>
                    <a:pt x="127" y="128"/>
                  </a:lnTo>
                  <a:lnTo>
                    <a:pt x="133" y="130"/>
                  </a:lnTo>
                  <a:lnTo>
                    <a:pt x="139" y="132"/>
                  </a:lnTo>
                  <a:lnTo>
                    <a:pt x="146" y="132"/>
                  </a:lnTo>
                  <a:lnTo>
                    <a:pt x="153" y="133"/>
                  </a:lnTo>
                  <a:lnTo>
                    <a:pt x="160" y="132"/>
                  </a:lnTo>
                  <a:lnTo>
                    <a:pt x="167" y="132"/>
                  </a:lnTo>
                  <a:lnTo>
                    <a:pt x="173" y="130"/>
                  </a:lnTo>
                  <a:lnTo>
                    <a:pt x="179" y="128"/>
                  </a:lnTo>
                  <a:lnTo>
                    <a:pt x="185" y="125"/>
                  </a:lnTo>
                  <a:lnTo>
                    <a:pt x="190" y="122"/>
                  </a:lnTo>
                  <a:lnTo>
                    <a:pt x="195" y="118"/>
                  </a:lnTo>
                  <a:lnTo>
                    <a:pt x="199" y="113"/>
                  </a:lnTo>
                  <a:lnTo>
                    <a:pt x="203" y="109"/>
                  </a:lnTo>
                  <a:lnTo>
                    <a:pt x="206" y="103"/>
                  </a:lnTo>
                  <a:lnTo>
                    <a:pt x="209" y="98"/>
                  </a:lnTo>
                  <a:lnTo>
                    <a:pt x="211" y="92"/>
                  </a:lnTo>
                  <a:lnTo>
                    <a:pt x="213" y="86"/>
                  </a:lnTo>
                  <a:lnTo>
                    <a:pt x="214" y="80"/>
                  </a:lnTo>
                  <a:lnTo>
                    <a:pt x="215" y="73"/>
                  </a:lnTo>
                  <a:lnTo>
                    <a:pt x="215" y="66"/>
                  </a:lnTo>
                  <a:close/>
                  <a:moveTo>
                    <a:pt x="196" y="66"/>
                  </a:moveTo>
                  <a:lnTo>
                    <a:pt x="195" y="72"/>
                  </a:lnTo>
                  <a:lnTo>
                    <a:pt x="195" y="77"/>
                  </a:lnTo>
                  <a:lnTo>
                    <a:pt x="193" y="86"/>
                  </a:lnTo>
                  <a:lnTo>
                    <a:pt x="191" y="90"/>
                  </a:lnTo>
                  <a:lnTo>
                    <a:pt x="189" y="95"/>
                  </a:lnTo>
                  <a:lnTo>
                    <a:pt x="184" y="102"/>
                  </a:lnTo>
                  <a:lnTo>
                    <a:pt x="181" y="105"/>
                  </a:lnTo>
                  <a:lnTo>
                    <a:pt x="178" y="108"/>
                  </a:lnTo>
                  <a:lnTo>
                    <a:pt x="175" y="111"/>
                  </a:lnTo>
                  <a:lnTo>
                    <a:pt x="171" y="113"/>
                  </a:lnTo>
                  <a:lnTo>
                    <a:pt x="167" y="114"/>
                  </a:lnTo>
                  <a:lnTo>
                    <a:pt x="163" y="115"/>
                  </a:lnTo>
                  <a:lnTo>
                    <a:pt x="158" y="116"/>
                  </a:lnTo>
                  <a:lnTo>
                    <a:pt x="153" y="116"/>
                  </a:lnTo>
                  <a:lnTo>
                    <a:pt x="149" y="116"/>
                  </a:lnTo>
                  <a:lnTo>
                    <a:pt x="144" y="115"/>
                  </a:lnTo>
                  <a:lnTo>
                    <a:pt x="140" y="114"/>
                  </a:lnTo>
                  <a:lnTo>
                    <a:pt x="136" y="113"/>
                  </a:lnTo>
                  <a:lnTo>
                    <a:pt x="132" y="111"/>
                  </a:lnTo>
                  <a:lnTo>
                    <a:pt x="128" y="108"/>
                  </a:lnTo>
                  <a:lnTo>
                    <a:pt x="125" y="105"/>
                  </a:lnTo>
                  <a:lnTo>
                    <a:pt x="122" y="102"/>
                  </a:lnTo>
                  <a:lnTo>
                    <a:pt x="120" y="98"/>
                  </a:lnTo>
                  <a:lnTo>
                    <a:pt x="117" y="95"/>
                  </a:lnTo>
                  <a:lnTo>
                    <a:pt x="115" y="90"/>
                  </a:lnTo>
                  <a:lnTo>
                    <a:pt x="114" y="86"/>
                  </a:lnTo>
                  <a:lnTo>
                    <a:pt x="112" y="81"/>
                  </a:lnTo>
                  <a:lnTo>
                    <a:pt x="112" y="77"/>
                  </a:lnTo>
                  <a:lnTo>
                    <a:pt x="111" y="72"/>
                  </a:lnTo>
                  <a:lnTo>
                    <a:pt x="111" y="66"/>
                  </a:lnTo>
                  <a:lnTo>
                    <a:pt x="111" y="61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5" y="42"/>
                  </a:lnTo>
                  <a:lnTo>
                    <a:pt x="117" y="38"/>
                  </a:lnTo>
                  <a:lnTo>
                    <a:pt x="122" y="31"/>
                  </a:lnTo>
                  <a:lnTo>
                    <a:pt x="125" y="27"/>
                  </a:lnTo>
                  <a:lnTo>
                    <a:pt x="128" y="24"/>
                  </a:lnTo>
                  <a:lnTo>
                    <a:pt x="132" y="22"/>
                  </a:lnTo>
                  <a:lnTo>
                    <a:pt x="136" y="20"/>
                  </a:lnTo>
                  <a:lnTo>
                    <a:pt x="140" y="18"/>
                  </a:lnTo>
                  <a:lnTo>
                    <a:pt x="144" y="17"/>
                  </a:lnTo>
                  <a:lnTo>
                    <a:pt x="149" y="16"/>
                  </a:lnTo>
                  <a:lnTo>
                    <a:pt x="153" y="16"/>
                  </a:lnTo>
                  <a:lnTo>
                    <a:pt x="158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71" y="20"/>
                  </a:lnTo>
                  <a:lnTo>
                    <a:pt x="175" y="22"/>
                  </a:lnTo>
                  <a:lnTo>
                    <a:pt x="178" y="24"/>
                  </a:lnTo>
                  <a:lnTo>
                    <a:pt x="181" y="27"/>
                  </a:lnTo>
                  <a:lnTo>
                    <a:pt x="184" y="31"/>
                  </a:lnTo>
                  <a:lnTo>
                    <a:pt x="187" y="34"/>
                  </a:lnTo>
                  <a:lnTo>
                    <a:pt x="189" y="38"/>
                  </a:lnTo>
                  <a:lnTo>
                    <a:pt x="191" y="42"/>
                  </a:lnTo>
                  <a:lnTo>
                    <a:pt x="193" y="46"/>
                  </a:lnTo>
                  <a:lnTo>
                    <a:pt x="194" y="51"/>
                  </a:lnTo>
                  <a:lnTo>
                    <a:pt x="195" y="56"/>
                  </a:lnTo>
                  <a:lnTo>
                    <a:pt x="195" y="61"/>
                  </a:lnTo>
                  <a:lnTo>
                    <a:pt x="196" y="66"/>
                  </a:lnTo>
                  <a:close/>
                  <a:moveTo>
                    <a:pt x="336" y="130"/>
                  </a:moveTo>
                  <a:lnTo>
                    <a:pt x="336" y="114"/>
                  </a:lnTo>
                  <a:lnTo>
                    <a:pt x="332" y="114"/>
                  </a:lnTo>
                  <a:lnTo>
                    <a:pt x="330" y="114"/>
                  </a:lnTo>
                  <a:lnTo>
                    <a:pt x="329" y="113"/>
                  </a:lnTo>
                  <a:lnTo>
                    <a:pt x="327" y="112"/>
                  </a:lnTo>
                  <a:lnTo>
                    <a:pt x="325" y="110"/>
                  </a:lnTo>
                  <a:lnTo>
                    <a:pt x="321" y="104"/>
                  </a:lnTo>
                  <a:lnTo>
                    <a:pt x="317" y="97"/>
                  </a:lnTo>
                  <a:lnTo>
                    <a:pt x="312" y="87"/>
                  </a:lnTo>
                  <a:lnTo>
                    <a:pt x="308" y="78"/>
                  </a:lnTo>
                  <a:lnTo>
                    <a:pt x="304" y="72"/>
                  </a:lnTo>
                  <a:lnTo>
                    <a:pt x="300" y="67"/>
                  </a:lnTo>
                  <a:lnTo>
                    <a:pt x="306" y="64"/>
                  </a:lnTo>
                  <a:lnTo>
                    <a:pt x="311" y="61"/>
                  </a:lnTo>
                  <a:lnTo>
                    <a:pt x="315" y="58"/>
                  </a:lnTo>
                  <a:lnTo>
                    <a:pt x="319" y="54"/>
                  </a:lnTo>
                  <a:lnTo>
                    <a:pt x="322" y="50"/>
                  </a:lnTo>
                  <a:lnTo>
                    <a:pt x="324" y="45"/>
                  </a:lnTo>
                  <a:lnTo>
                    <a:pt x="325" y="40"/>
                  </a:lnTo>
                  <a:lnTo>
                    <a:pt x="325" y="35"/>
                  </a:lnTo>
                  <a:lnTo>
                    <a:pt x="325" y="32"/>
                  </a:lnTo>
                  <a:lnTo>
                    <a:pt x="324" y="28"/>
                  </a:lnTo>
                  <a:lnTo>
                    <a:pt x="322" y="22"/>
                  </a:lnTo>
                  <a:lnTo>
                    <a:pt x="321" y="19"/>
                  </a:lnTo>
                  <a:lnTo>
                    <a:pt x="319" y="16"/>
                  </a:lnTo>
                  <a:lnTo>
                    <a:pt x="317" y="13"/>
                  </a:lnTo>
                  <a:lnTo>
                    <a:pt x="314" y="11"/>
                  </a:lnTo>
                  <a:lnTo>
                    <a:pt x="308" y="7"/>
                  </a:lnTo>
                  <a:lnTo>
                    <a:pt x="305" y="6"/>
                  </a:lnTo>
                  <a:lnTo>
                    <a:pt x="301" y="4"/>
                  </a:lnTo>
                  <a:lnTo>
                    <a:pt x="294" y="3"/>
                  </a:lnTo>
                  <a:lnTo>
                    <a:pt x="286" y="2"/>
                  </a:lnTo>
                  <a:lnTo>
                    <a:pt x="242" y="2"/>
                  </a:lnTo>
                  <a:lnTo>
                    <a:pt x="242" y="130"/>
                  </a:lnTo>
                  <a:lnTo>
                    <a:pt x="262" y="130"/>
                  </a:lnTo>
                  <a:lnTo>
                    <a:pt x="262" y="74"/>
                  </a:lnTo>
                  <a:lnTo>
                    <a:pt x="276" y="74"/>
                  </a:lnTo>
                  <a:lnTo>
                    <a:pt x="278" y="74"/>
                  </a:lnTo>
                  <a:lnTo>
                    <a:pt x="281" y="75"/>
                  </a:lnTo>
                  <a:lnTo>
                    <a:pt x="283" y="76"/>
                  </a:lnTo>
                  <a:lnTo>
                    <a:pt x="285" y="77"/>
                  </a:lnTo>
                  <a:lnTo>
                    <a:pt x="289" y="82"/>
                  </a:lnTo>
                  <a:lnTo>
                    <a:pt x="293" y="88"/>
                  </a:lnTo>
                  <a:lnTo>
                    <a:pt x="307" y="116"/>
                  </a:lnTo>
                  <a:lnTo>
                    <a:pt x="309" y="119"/>
                  </a:lnTo>
                  <a:lnTo>
                    <a:pt x="312" y="122"/>
                  </a:lnTo>
                  <a:lnTo>
                    <a:pt x="315" y="125"/>
                  </a:lnTo>
                  <a:lnTo>
                    <a:pt x="318" y="127"/>
                  </a:lnTo>
                  <a:lnTo>
                    <a:pt x="321" y="128"/>
                  </a:lnTo>
                  <a:lnTo>
                    <a:pt x="324" y="129"/>
                  </a:lnTo>
                  <a:lnTo>
                    <a:pt x="328" y="130"/>
                  </a:lnTo>
                  <a:lnTo>
                    <a:pt x="332" y="130"/>
                  </a:lnTo>
                  <a:lnTo>
                    <a:pt x="336" y="130"/>
                  </a:lnTo>
                  <a:close/>
                  <a:moveTo>
                    <a:pt x="305" y="35"/>
                  </a:moveTo>
                  <a:lnTo>
                    <a:pt x="305" y="40"/>
                  </a:lnTo>
                  <a:lnTo>
                    <a:pt x="304" y="44"/>
                  </a:lnTo>
                  <a:lnTo>
                    <a:pt x="302" y="47"/>
                  </a:lnTo>
                  <a:lnTo>
                    <a:pt x="299" y="51"/>
                  </a:lnTo>
                  <a:lnTo>
                    <a:pt x="295" y="54"/>
                  </a:lnTo>
                  <a:lnTo>
                    <a:pt x="291" y="56"/>
                  </a:lnTo>
                  <a:lnTo>
                    <a:pt x="287" y="57"/>
                  </a:lnTo>
                  <a:lnTo>
                    <a:pt x="283" y="57"/>
                  </a:lnTo>
                  <a:lnTo>
                    <a:pt x="262" y="57"/>
                  </a:lnTo>
                  <a:lnTo>
                    <a:pt x="262" y="18"/>
                  </a:lnTo>
                  <a:lnTo>
                    <a:pt x="283" y="18"/>
                  </a:lnTo>
                  <a:lnTo>
                    <a:pt x="287" y="18"/>
                  </a:lnTo>
                  <a:lnTo>
                    <a:pt x="291" y="19"/>
                  </a:lnTo>
                  <a:lnTo>
                    <a:pt x="295" y="21"/>
                  </a:lnTo>
                  <a:lnTo>
                    <a:pt x="298" y="23"/>
                  </a:lnTo>
                  <a:lnTo>
                    <a:pt x="301" y="25"/>
                  </a:lnTo>
                  <a:lnTo>
                    <a:pt x="304" y="28"/>
                  </a:lnTo>
                  <a:lnTo>
                    <a:pt x="305" y="32"/>
                  </a:lnTo>
                  <a:lnTo>
                    <a:pt x="305" y="35"/>
                  </a:lnTo>
                  <a:close/>
                  <a:moveTo>
                    <a:pt x="524" y="130"/>
                  </a:moveTo>
                  <a:lnTo>
                    <a:pt x="524" y="2"/>
                  </a:lnTo>
                  <a:lnTo>
                    <a:pt x="505" y="2"/>
                  </a:lnTo>
                  <a:lnTo>
                    <a:pt x="505" y="55"/>
                  </a:lnTo>
                  <a:lnTo>
                    <a:pt x="443" y="55"/>
                  </a:lnTo>
                  <a:lnTo>
                    <a:pt x="443" y="2"/>
                  </a:lnTo>
                  <a:lnTo>
                    <a:pt x="425" y="2"/>
                  </a:lnTo>
                  <a:lnTo>
                    <a:pt x="425" y="130"/>
                  </a:lnTo>
                  <a:lnTo>
                    <a:pt x="443" y="130"/>
                  </a:lnTo>
                  <a:lnTo>
                    <a:pt x="443" y="71"/>
                  </a:lnTo>
                  <a:lnTo>
                    <a:pt x="505" y="71"/>
                  </a:lnTo>
                  <a:lnTo>
                    <a:pt x="505" y="130"/>
                  </a:lnTo>
                  <a:lnTo>
                    <a:pt x="524" y="130"/>
                  </a:lnTo>
                  <a:close/>
                  <a:moveTo>
                    <a:pt x="632" y="18"/>
                  </a:moveTo>
                  <a:lnTo>
                    <a:pt x="632" y="2"/>
                  </a:lnTo>
                  <a:lnTo>
                    <a:pt x="560" y="2"/>
                  </a:lnTo>
                  <a:lnTo>
                    <a:pt x="560" y="130"/>
                  </a:lnTo>
                  <a:lnTo>
                    <a:pt x="632" y="130"/>
                  </a:lnTo>
                  <a:lnTo>
                    <a:pt x="632" y="114"/>
                  </a:lnTo>
                  <a:lnTo>
                    <a:pt x="579" y="114"/>
                  </a:lnTo>
                  <a:lnTo>
                    <a:pt x="579" y="72"/>
                  </a:lnTo>
                  <a:lnTo>
                    <a:pt x="628" y="72"/>
                  </a:lnTo>
                  <a:lnTo>
                    <a:pt x="628" y="55"/>
                  </a:lnTo>
                  <a:lnTo>
                    <a:pt x="579" y="55"/>
                  </a:lnTo>
                  <a:lnTo>
                    <a:pt x="579" y="18"/>
                  </a:lnTo>
                  <a:lnTo>
                    <a:pt x="632" y="18"/>
                  </a:lnTo>
                  <a:close/>
                  <a:moveTo>
                    <a:pt x="778" y="130"/>
                  </a:moveTo>
                  <a:lnTo>
                    <a:pt x="722" y="2"/>
                  </a:lnTo>
                  <a:lnTo>
                    <a:pt x="704" y="2"/>
                  </a:lnTo>
                  <a:lnTo>
                    <a:pt x="649" y="130"/>
                  </a:lnTo>
                  <a:lnTo>
                    <a:pt x="669" y="130"/>
                  </a:lnTo>
                  <a:lnTo>
                    <a:pt x="682" y="98"/>
                  </a:lnTo>
                  <a:lnTo>
                    <a:pt x="745" y="98"/>
                  </a:lnTo>
                  <a:lnTo>
                    <a:pt x="758" y="130"/>
                  </a:lnTo>
                  <a:lnTo>
                    <a:pt x="778" y="130"/>
                  </a:lnTo>
                  <a:close/>
                  <a:moveTo>
                    <a:pt x="739" y="83"/>
                  </a:moveTo>
                  <a:lnTo>
                    <a:pt x="688" y="83"/>
                  </a:lnTo>
                  <a:lnTo>
                    <a:pt x="713" y="20"/>
                  </a:lnTo>
                  <a:lnTo>
                    <a:pt x="739" y="83"/>
                  </a:lnTo>
                  <a:close/>
                  <a:moveTo>
                    <a:pt x="870" y="130"/>
                  </a:moveTo>
                  <a:lnTo>
                    <a:pt x="870" y="114"/>
                  </a:lnTo>
                  <a:lnTo>
                    <a:pt x="817" y="114"/>
                  </a:lnTo>
                  <a:lnTo>
                    <a:pt x="817" y="2"/>
                  </a:lnTo>
                  <a:lnTo>
                    <a:pt x="799" y="2"/>
                  </a:lnTo>
                  <a:lnTo>
                    <a:pt x="799" y="130"/>
                  </a:lnTo>
                  <a:lnTo>
                    <a:pt x="870" y="130"/>
                  </a:lnTo>
                  <a:close/>
                  <a:moveTo>
                    <a:pt x="976" y="18"/>
                  </a:moveTo>
                  <a:lnTo>
                    <a:pt x="976" y="2"/>
                  </a:lnTo>
                  <a:lnTo>
                    <a:pt x="879" y="2"/>
                  </a:lnTo>
                  <a:lnTo>
                    <a:pt x="879" y="18"/>
                  </a:lnTo>
                  <a:lnTo>
                    <a:pt x="918" y="18"/>
                  </a:lnTo>
                  <a:lnTo>
                    <a:pt x="918" y="130"/>
                  </a:lnTo>
                  <a:lnTo>
                    <a:pt x="937" y="130"/>
                  </a:lnTo>
                  <a:lnTo>
                    <a:pt x="937" y="18"/>
                  </a:lnTo>
                  <a:lnTo>
                    <a:pt x="976" y="18"/>
                  </a:lnTo>
                  <a:close/>
                  <a:moveTo>
                    <a:pt x="1097" y="130"/>
                  </a:moveTo>
                  <a:lnTo>
                    <a:pt x="1097" y="2"/>
                  </a:lnTo>
                  <a:lnTo>
                    <a:pt x="1078" y="2"/>
                  </a:lnTo>
                  <a:lnTo>
                    <a:pt x="1078" y="55"/>
                  </a:lnTo>
                  <a:lnTo>
                    <a:pt x="1016" y="55"/>
                  </a:lnTo>
                  <a:lnTo>
                    <a:pt x="1016" y="2"/>
                  </a:lnTo>
                  <a:lnTo>
                    <a:pt x="998" y="2"/>
                  </a:lnTo>
                  <a:lnTo>
                    <a:pt x="998" y="130"/>
                  </a:lnTo>
                  <a:lnTo>
                    <a:pt x="1016" y="130"/>
                  </a:lnTo>
                  <a:lnTo>
                    <a:pt x="1016" y="71"/>
                  </a:lnTo>
                  <a:lnTo>
                    <a:pt x="1078" y="71"/>
                  </a:lnTo>
                  <a:lnTo>
                    <a:pt x="1078" y="130"/>
                  </a:lnTo>
                  <a:lnTo>
                    <a:pt x="1097" y="130"/>
                  </a:lnTo>
                  <a:close/>
                  <a:moveTo>
                    <a:pt x="1312" y="130"/>
                  </a:moveTo>
                  <a:lnTo>
                    <a:pt x="1256" y="2"/>
                  </a:lnTo>
                  <a:lnTo>
                    <a:pt x="1238" y="2"/>
                  </a:lnTo>
                  <a:lnTo>
                    <a:pt x="1183" y="130"/>
                  </a:lnTo>
                  <a:lnTo>
                    <a:pt x="1203" y="130"/>
                  </a:lnTo>
                  <a:lnTo>
                    <a:pt x="1216" y="98"/>
                  </a:lnTo>
                  <a:lnTo>
                    <a:pt x="1279" y="98"/>
                  </a:lnTo>
                  <a:lnTo>
                    <a:pt x="1292" y="130"/>
                  </a:lnTo>
                  <a:lnTo>
                    <a:pt x="1312" y="130"/>
                  </a:lnTo>
                  <a:close/>
                  <a:moveTo>
                    <a:pt x="1273" y="83"/>
                  </a:moveTo>
                  <a:lnTo>
                    <a:pt x="1222" y="83"/>
                  </a:lnTo>
                  <a:lnTo>
                    <a:pt x="1247" y="20"/>
                  </a:lnTo>
                  <a:lnTo>
                    <a:pt x="1273" y="83"/>
                  </a:lnTo>
                  <a:close/>
                  <a:moveTo>
                    <a:pt x="1432" y="130"/>
                  </a:moveTo>
                  <a:lnTo>
                    <a:pt x="1432" y="2"/>
                  </a:lnTo>
                  <a:lnTo>
                    <a:pt x="1414" y="2"/>
                  </a:lnTo>
                  <a:lnTo>
                    <a:pt x="1414" y="105"/>
                  </a:lnTo>
                  <a:lnTo>
                    <a:pt x="1413" y="105"/>
                  </a:lnTo>
                  <a:lnTo>
                    <a:pt x="1357" y="2"/>
                  </a:lnTo>
                  <a:lnTo>
                    <a:pt x="1333" y="2"/>
                  </a:lnTo>
                  <a:lnTo>
                    <a:pt x="1333" y="130"/>
                  </a:lnTo>
                  <a:lnTo>
                    <a:pt x="1352" y="130"/>
                  </a:lnTo>
                  <a:lnTo>
                    <a:pt x="1352" y="28"/>
                  </a:lnTo>
                  <a:lnTo>
                    <a:pt x="1408" y="130"/>
                  </a:lnTo>
                  <a:lnTo>
                    <a:pt x="1432" y="130"/>
                  </a:lnTo>
                  <a:close/>
                  <a:moveTo>
                    <a:pt x="1573" y="67"/>
                  </a:moveTo>
                  <a:lnTo>
                    <a:pt x="1573" y="60"/>
                  </a:lnTo>
                  <a:lnTo>
                    <a:pt x="1572" y="54"/>
                  </a:lnTo>
                  <a:lnTo>
                    <a:pt x="1571" y="48"/>
                  </a:lnTo>
                  <a:lnTo>
                    <a:pt x="1569" y="42"/>
                  </a:lnTo>
                  <a:lnTo>
                    <a:pt x="1566" y="36"/>
                  </a:lnTo>
                  <a:lnTo>
                    <a:pt x="1564" y="31"/>
                  </a:lnTo>
                  <a:lnTo>
                    <a:pt x="1560" y="26"/>
                  </a:lnTo>
                  <a:lnTo>
                    <a:pt x="1556" y="21"/>
                  </a:lnTo>
                  <a:lnTo>
                    <a:pt x="1552" y="17"/>
                  </a:lnTo>
                  <a:lnTo>
                    <a:pt x="1547" y="13"/>
                  </a:lnTo>
                  <a:lnTo>
                    <a:pt x="1542" y="10"/>
                  </a:lnTo>
                  <a:lnTo>
                    <a:pt x="1536" y="7"/>
                  </a:lnTo>
                  <a:lnTo>
                    <a:pt x="1531" y="5"/>
                  </a:lnTo>
                  <a:lnTo>
                    <a:pt x="1524" y="3"/>
                  </a:lnTo>
                  <a:lnTo>
                    <a:pt x="1518" y="2"/>
                  </a:lnTo>
                  <a:lnTo>
                    <a:pt x="1511" y="2"/>
                  </a:lnTo>
                  <a:lnTo>
                    <a:pt x="1466" y="2"/>
                  </a:lnTo>
                  <a:lnTo>
                    <a:pt x="1466" y="130"/>
                  </a:lnTo>
                  <a:lnTo>
                    <a:pt x="1511" y="130"/>
                  </a:lnTo>
                  <a:lnTo>
                    <a:pt x="1518" y="130"/>
                  </a:lnTo>
                  <a:lnTo>
                    <a:pt x="1524" y="129"/>
                  </a:lnTo>
                  <a:lnTo>
                    <a:pt x="1531" y="128"/>
                  </a:lnTo>
                  <a:lnTo>
                    <a:pt x="1536" y="126"/>
                  </a:lnTo>
                  <a:lnTo>
                    <a:pt x="1542" y="123"/>
                  </a:lnTo>
                  <a:lnTo>
                    <a:pt x="1547" y="120"/>
                  </a:lnTo>
                  <a:lnTo>
                    <a:pt x="1552" y="116"/>
                  </a:lnTo>
                  <a:lnTo>
                    <a:pt x="1556" y="112"/>
                  </a:lnTo>
                  <a:lnTo>
                    <a:pt x="1560" y="107"/>
                  </a:lnTo>
                  <a:lnTo>
                    <a:pt x="1564" y="102"/>
                  </a:lnTo>
                  <a:lnTo>
                    <a:pt x="1566" y="97"/>
                  </a:lnTo>
                  <a:lnTo>
                    <a:pt x="1568" y="94"/>
                  </a:lnTo>
                  <a:lnTo>
                    <a:pt x="1569" y="91"/>
                  </a:lnTo>
                  <a:lnTo>
                    <a:pt x="1571" y="86"/>
                  </a:lnTo>
                  <a:lnTo>
                    <a:pt x="1572" y="80"/>
                  </a:lnTo>
                  <a:lnTo>
                    <a:pt x="1573" y="73"/>
                  </a:lnTo>
                  <a:lnTo>
                    <a:pt x="1573" y="67"/>
                  </a:lnTo>
                  <a:close/>
                  <a:moveTo>
                    <a:pt x="1554" y="67"/>
                  </a:moveTo>
                  <a:lnTo>
                    <a:pt x="1554" y="72"/>
                  </a:lnTo>
                  <a:lnTo>
                    <a:pt x="1554" y="76"/>
                  </a:lnTo>
                  <a:lnTo>
                    <a:pt x="1553" y="81"/>
                  </a:lnTo>
                  <a:lnTo>
                    <a:pt x="1551" y="85"/>
                  </a:lnTo>
                  <a:lnTo>
                    <a:pt x="1550" y="89"/>
                  </a:lnTo>
                  <a:lnTo>
                    <a:pt x="1548" y="93"/>
                  </a:lnTo>
                  <a:lnTo>
                    <a:pt x="1543" y="100"/>
                  </a:lnTo>
                  <a:lnTo>
                    <a:pt x="1539" y="103"/>
                  </a:lnTo>
                  <a:lnTo>
                    <a:pt x="1536" y="106"/>
                  </a:lnTo>
                  <a:lnTo>
                    <a:pt x="1532" y="109"/>
                  </a:lnTo>
                  <a:lnTo>
                    <a:pt x="1529" y="110"/>
                  </a:lnTo>
                  <a:lnTo>
                    <a:pt x="1525" y="112"/>
                  </a:lnTo>
                  <a:lnTo>
                    <a:pt x="1520" y="113"/>
                  </a:lnTo>
                  <a:lnTo>
                    <a:pt x="1511" y="114"/>
                  </a:lnTo>
                  <a:lnTo>
                    <a:pt x="1485" y="114"/>
                  </a:lnTo>
                  <a:lnTo>
                    <a:pt x="1485" y="18"/>
                  </a:lnTo>
                  <a:lnTo>
                    <a:pt x="1511" y="18"/>
                  </a:lnTo>
                  <a:lnTo>
                    <a:pt x="1516" y="19"/>
                  </a:lnTo>
                  <a:lnTo>
                    <a:pt x="1520" y="19"/>
                  </a:lnTo>
                  <a:lnTo>
                    <a:pt x="1525" y="21"/>
                  </a:lnTo>
                  <a:lnTo>
                    <a:pt x="1529" y="22"/>
                  </a:lnTo>
                  <a:lnTo>
                    <a:pt x="1532" y="24"/>
                  </a:lnTo>
                  <a:lnTo>
                    <a:pt x="1536" y="27"/>
                  </a:lnTo>
                  <a:lnTo>
                    <a:pt x="1539" y="30"/>
                  </a:lnTo>
                  <a:lnTo>
                    <a:pt x="1543" y="33"/>
                  </a:lnTo>
                  <a:lnTo>
                    <a:pt x="1545" y="37"/>
                  </a:lnTo>
                  <a:lnTo>
                    <a:pt x="1548" y="41"/>
                  </a:lnTo>
                  <a:lnTo>
                    <a:pt x="1550" y="44"/>
                  </a:lnTo>
                  <a:lnTo>
                    <a:pt x="1551" y="49"/>
                  </a:lnTo>
                  <a:lnTo>
                    <a:pt x="1553" y="53"/>
                  </a:lnTo>
                  <a:lnTo>
                    <a:pt x="1554" y="57"/>
                  </a:lnTo>
                  <a:lnTo>
                    <a:pt x="1554" y="62"/>
                  </a:lnTo>
                  <a:lnTo>
                    <a:pt x="1554" y="67"/>
                  </a:lnTo>
                  <a:close/>
                  <a:moveTo>
                    <a:pt x="1835" y="2"/>
                  </a:moveTo>
                  <a:lnTo>
                    <a:pt x="1816" y="2"/>
                  </a:lnTo>
                  <a:lnTo>
                    <a:pt x="1784" y="108"/>
                  </a:lnTo>
                  <a:lnTo>
                    <a:pt x="1783" y="108"/>
                  </a:lnTo>
                  <a:lnTo>
                    <a:pt x="1756" y="2"/>
                  </a:lnTo>
                  <a:lnTo>
                    <a:pt x="1730" y="2"/>
                  </a:lnTo>
                  <a:lnTo>
                    <a:pt x="1703" y="108"/>
                  </a:lnTo>
                  <a:lnTo>
                    <a:pt x="1701" y="108"/>
                  </a:lnTo>
                  <a:lnTo>
                    <a:pt x="1670" y="2"/>
                  </a:lnTo>
                  <a:lnTo>
                    <a:pt x="1650" y="2"/>
                  </a:lnTo>
                  <a:lnTo>
                    <a:pt x="1690" y="130"/>
                  </a:lnTo>
                  <a:lnTo>
                    <a:pt x="1714" y="130"/>
                  </a:lnTo>
                  <a:lnTo>
                    <a:pt x="1743" y="19"/>
                  </a:lnTo>
                  <a:lnTo>
                    <a:pt x="1744" y="19"/>
                  </a:lnTo>
                  <a:lnTo>
                    <a:pt x="1772" y="130"/>
                  </a:lnTo>
                  <a:lnTo>
                    <a:pt x="1795" y="130"/>
                  </a:lnTo>
                  <a:lnTo>
                    <a:pt x="1835" y="2"/>
                  </a:lnTo>
                  <a:close/>
                  <a:moveTo>
                    <a:pt x="1929" y="18"/>
                  </a:moveTo>
                  <a:lnTo>
                    <a:pt x="1929" y="2"/>
                  </a:lnTo>
                  <a:lnTo>
                    <a:pt x="1856" y="2"/>
                  </a:lnTo>
                  <a:lnTo>
                    <a:pt x="1856" y="130"/>
                  </a:lnTo>
                  <a:lnTo>
                    <a:pt x="1928" y="130"/>
                  </a:lnTo>
                  <a:lnTo>
                    <a:pt x="1928" y="114"/>
                  </a:lnTo>
                  <a:lnTo>
                    <a:pt x="1875" y="114"/>
                  </a:lnTo>
                  <a:lnTo>
                    <a:pt x="1875" y="72"/>
                  </a:lnTo>
                  <a:lnTo>
                    <a:pt x="1924" y="72"/>
                  </a:lnTo>
                  <a:lnTo>
                    <a:pt x="1924" y="55"/>
                  </a:lnTo>
                  <a:lnTo>
                    <a:pt x="1875" y="55"/>
                  </a:lnTo>
                  <a:lnTo>
                    <a:pt x="1875" y="18"/>
                  </a:lnTo>
                  <a:lnTo>
                    <a:pt x="1929" y="18"/>
                  </a:lnTo>
                  <a:close/>
                  <a:moveTo>
                    <a:pt x="2031" y="130"/>
                  </a:moveTo>
                  <a:lnTo>
                    <a:pt x="2031" y="114"/>
                  </a:lnTo>
                  <a:lnTo>
                    <a:pt x="1978" y="114"/>
                  </a:lnTo>
                  <a:lnTo>
                    <a:pt x="1978" y="2"/>
                  </a:lnTo>
                  <a:lnTo>
                    <a:pt x="1960" y="2"/>
                  </a:lnTo>
                  <a:lnTo>
                    <a:pt x="1960" y="130"/>
                  </a:lnTo>
                  <a:lnTo>
                    <a:pt x="2031" y="130"/>
                  </a:lnTo>
                  <a:close/>
                  <a:moveTo>
                    <a:pt x="2127" y="18"/>
                  </a:moveTo>
                  <a:lnTo>
                    <a:pt x="2127" y="2"/>
                  </a:lnTo>
                  <a:lnTo>
                    <a:pt x="2055" y="2"/>
                  </a:lnTo>
                  <a:lnTo>
                    <a:pt x="2055" y="130"/>
                  </a:lnTo>
                  <a:lnTo>
                    <a:pt x="2073" y="130"/>
                  </a:lnTo>
                  <a:lnTo>
                    <a:pt x="2073" y="72"/>
                  </a:lnTo>
                  <a:lnTo>
                    <a:pt x="2122" y="72"/>
                  </a:lnTo>
                  <a:lnTo>
                    <a:pt x="2122" y="55"/>
                  </a:lnTo>
                  <a:lnTo>
                    <a:pt x="2073" y="55"/>
                  </a:lnTo>
                  <a:lnTo>
                    <a:pt x="2073" y="18"/>
                  </a:lnTo>
                  <a:lnTo>
                    <a:pt x="2127" y="18"/>
                  </a:lnTo>
                  <a:close/>
                  <a:moveTo>
                    <a:pt x="2262" y="130"/>
                  </a:moveTo>
                  <a:lnTo>
                    <a:pt x="2206" y="2"/>
                  </a:lnTo>
                  <a:lnTo>
                    <a:pt x="2188" y="2"/>
                  </a:lnTo>
                  <a:lnTo>
                    <a:pt x="2132" y="130"/>
                  </a:lnTo>
                  <a:lnTo>
                    <a:pt x="2152" y="130"/>
                  </a:lnTo>
                  <a:lnTo>
                    <a:pt x="2165" y="98"/>
                  </a:lnTo>
                  <a:lnTo>
                    <a:pt x="2228" y="98"/>
                  </a:lnTo>
                  <a:lnTo>
                    <a:pt x="2242" y="130"/>
                  </a:lnTo>
                  <a:lnTo>
                    <a:pt x="2262" y="130"/>
                  </a:lnTo>
                  <a:close/>
                  <a:moveTo>
                    <a:pt x="2222" y="83"/>
                  </a:moveTo>
                  <a:lnTo>
                    <a:pt x="2171" y="83"/>
                  </a:lnTo>
                  <a:lnTo>
                    <a:pt x="2197" y="20"/>
                  </a:lnTo>
                  <a:lnTo>
                    <a:pt x="2222" y="83"/>
                  </a:lnTo>
                  <a:close/>
                  <a:moveTo>
                    <a:pt x="2377" y="130"/>
                  </a:moveTo>
                  <a:lnTo>
                    <a:pt x="2377" y="114"/>
                  </a:lnTo>
                  <a:lnTo>
                    <a:pt x="2373" y="114"/>
                  </a:lnTo>
                  <a:lnTo>
                    <a:pt x="2371" y="114"/>
                  </a:lnTo>
                  <a:lnTo>
                    <a:pt x="2369" y="113"/>
                  </a:lnTo>
                  <a:lnTo>
                    <a:pt x="2368" y="112"/>
                  </a:lnTo>
                  <a:lnTo>
                    <a:pt x="2366" y="110"/>
                  </a:lnTo>
                  <a:lnTo>
                    <a:pt x="2362" y="104"/>
                  </a:lnTo>
                  <a:lnTo>
                    <a:pt x="2358" y="97"/>
                  </a:lnTo>
                  <a:lnTo>
                    <a:pt x="2353" y="87"/>
                  </a:lnTo>
                  <a:lnTo>
                    <a:pt x="2349" y="78"/>
                  </a:lnTo>
                  <a:lnTo>
                    <a:pt x="2344" y="72"/>
                  </a:lnTo>
                  <a:lnTo>
                    <a:pt x="2341" y="67"/>
                  </a:lnTo>
                  <a:lnTo>
                    <a:pt x="2347" y="64"/>
                  </a:lnTo>
                  <a:lnTo>
                    <a:pt x="2352" y="61"/>
                  </a:lnTo>
                  <a:lnTo>
                    <a:pt x="2356" y="58"/>
                  </a:lnTo>
                  <a:lnTo>
                    <a:pt x="2360" y="54"/>
                  </a:lnTo>
                  <a:lnTo>
                    <a:pt x="2362" y="50"/>
                  </a:lnTo>
                  <a:lnTo>
                    <a:pt x="2364" y="45"/>
                  </a:lnTo>
                  <a:lnTo>
                    <a:pt x="2366" y="40"/>
                  </a:lnTo>
                  <a:lnTo>
                    <a:pt x="2366" y="35"/>
                  </a:lnTo>
                  <a:lnTo>
                    <a:pt x="2366" y="32"/>
                  </a:lnTo>
                  <a:lnTo>
                    <a:pt x="2365" y="28"/>
                  </a:lnTo>
                  <a:lnTo>
                    <a:pt x="2363" y="22"/>
                  </a:lnTo>
                  <a:lnTo>
                    <a:pt x="2362" y="19"/>
                  </a:lnTo>
                  <a:lnTo>
                    <a:pt x="2360" y="16"/>
                  </a:lnTo>
                  <a:lnTo>
                    <a:pt x="2357" y="13"/>
                  </a:lnTo>
                  <a:lnTo>
                    <a:pt x="2355" y="11"/>
                  </a:lnTo>
                  <a:lnTo>
                    <a:pt x="2349" y="7"/>
                  </a:lnTo>
                  <a:lnTo>
                    <a:pt x="2346" y="6"/>
                  </a:lnTo>
                  <a:lnTo>
                    <a:pt x="2342" y="4"/>
                  </a:lnTo>
                  <a:lnTo>
                    <a:pt x="2335" y="3"/>
                  </a:lnTo>
                  <a:lnTo>
                    <a:pt x="2327" y="2"/>
                  </a:lnTo>
                  <a:lnTo>
                    <a:pt x="2284" y="2"/>
                  </a:lnTo>
                  <a:lnTo>
                    <a:pt x="2284" y="130"/>
                  </a:lnTo>
                  <a:lnTo>
                    <a:pt x="2303" y="130"/>
                  </a:lnTo>
                  <a:lnTo>
                    <a:pt x="2303" y="74"/>
                  </a:lnTo>
                  <a:lnTo>
                    <a:pt x="2317" y="74"/>
                  </a:lnTo>
                  <a:lnTo>
                    <a:pt x="2319" y="74"/>
                  </a:lnTo>
                  <a:lnTo>
                    <a:pt x="2322" y="75"/>
                  </a:lnTo>
                  <a:lnTo>
                    <a:pt x="2324" y="76"/>
                  </a:lnTo>
                  <a:lnTo>
                    <a:pt x="2326" y="77"/>
                  </a:lnTo>
                  <a:lnTo>
                    <a:pt x="2330" y="82"/>
                  </a:lnTo>
                  <a:lnTo>
                    <a:pt x="2334" y="88"/>
                  </a:lnTo>
                  <a:lnTo>
                    <a:pt x="2347" y="116"/>
                  </a:lnTo>
                  <a:lnTo>
                    <a:pt x="2350" y="119"/>
                  </a:lnTo>
                  <a:lnTo>
                    <a:pt x="2353" y="122"/>
                  </a:lnTo>
                  <a:lnTo>
                    <a:pt x="2356" y="125"/>
                  </a:lnTo>
                  <a:lnTo>
                    <a:pt x="2359" y="127"/>
                  </a:lnTo>
                  <a:lnTo>
                    <a:pt x="2362" y="128"/>
                  </a:lnTo>
                  <a:lnTo>
                    <a:pt x="2365" y="129"/>
                  </a:lnTo>
                  <a:lnTo>
                    <a:pt x="2369" y="130"/>
                  </a:lnTo>
                  <a:lnTo>
                    <a:pt x="2373" y="130"/>
                  </a:lnTo>
                  <a:lnTo>
                    <a:pt x="2377" y="130"/>
                  </a:lnTo>
                  <a:close/>
                  <a:moveTo>
                    <a:pt x="2346" y="35"/>
                  </a:moveTo>
                  <a:lnTo>
                    <a:pt x="2346" y="40"/>
                  </a:lnTo>
                  <a:lnTo>
                    <a:pt x="2345" y="44"/>
                  </a:lnTo>
                  <a:lnTo>
                    <a:pt x="2342" y="47"/>
                  </a:lnTo>
                  <a:lnTo>
                    <a:pt x="2339" y="51"/>
                  </a:lnTo>
                  <a:lnTo>
                    <a:pt x="2336" y="54"/>
                  </a:lnTo>
                  <a:lnTo>
                    <a:pt x="2332" y="56"/>
                  </a:lnTo>
                  <a:lnTo>
                    <a:pt x="2328" y="57"/>
                  </a:lnTo>
                  <a:lnTo>
                    <a:pt x="2323" y="57"/>
                  </a:lnTo>
                  <a:lnTo>
                    <a:pt x="2303" y="57"/>
                  </a:lnTo>
                  <a:lnTo>
                    <a:pt x="2303" y="18"/>
                  </a:lnTo>
                  <a:lnTo>
                    <a:pt x="2323" y="18"/>
                  </a:lnTo>
                  <a:lnTo>
                    <a:pt x="2328" y="18"/>
                  </a:lnTo>
                  <a:lnTo>
                    <a:pt x="2332" y="19"/>
                  </a:lnTo>
                  <a:lnTo>
                    <a:pt x="2336" y="21"/>
                  </a:lnTo>
                  <a:lnTo>
                    <a:pt x="2339" y="23"/>
                  </a:lnTo>
                  <a:lnTo>
                    <a:pt x="2342" y="25"/>
                  </a:lnTo>
                  <a:lnTo>
                    <a:pt x="2344" y="28"/>
                  </a:lnTo>
                  <a:lnTo>
                    <a:pt x="2346" y="32"/>
                  </a:lnTo>
                  <a:lnTo>
                    <a:pt x="2346" y="35"/>
                  </a:lnTo>
                  <a:close/>
                  <a:moveTo>
                    <a:pt x="2476" y="18"/>
                  </a:moveTo>
                  <a:lnTo>
                    <a:pt x="2476" y="2"/>
                  </a:lnTo>
                  <a:lnTo>
                    <a:pt x="2404" y="2"/>
                  </a:lnTo>
                  <a:lnTo>
                    <a:pt x="2404" y="130"/>
                  </a:lnTo>
                  <a:lnTo>
                    <a:pt x="2476" y="130"/>
                  </a:lnTo>
                  <a:lnTo>
                    <a:pt x="2476" y="114"/>
                  </a:lnTo>
                  <a:lnTo>
                    <a:pt x="2422" y="114"/>
                  </a:lnTo>
                  <a:lnTo>
                    <a:pt x="2422" y="72"/>
                  </a:lnTo>
                  <a:lnTo>
                    <a:pt x="2471" y="72"/>
                  </a:lnTo>
                  <a:lnTo>
                    <a:pt x="2471" y="55"/>
                  </a:lnTo>
                  <a:lnTo>
                    <a:pt x="2422" y="55"/>
                  </a:lnTo>
                  <a:lnTo>
                    <a:pt x="2422" y="18"/>
                  </a:lnTo>
                  <a:lnTo>
                    <a:pt x="2476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41280" y="3951360"/>
              <a:ext cx="2820960" cy="198360"/>
            </a:xfrm>
            <a:custGeom>
              <a:avLst/>
              <a:gdLst/>
              <a:ahLst/>
              <a:rect l="l" t="t" r="r" b="b"/>
              <a:pathLst>
                <a:path w="1885" h="133">
                  <a:moveTo>
                    <a:pt x="100" y="131"/>
                  </a:moveTo>
                  <a:lnTo>
                    <a:pt x="100" y="2"/>
                  </a:lnTo>
                  <a:lnTo>
                    <a:pt x="81" y="2"/>
                  </a:lnTo>
                  <a:lnTo>
                    <a:pt x="81" y="105"/>
                  </a:lnTo>
                  <a:lnTo>
                    <a:pt x="80" y="105"/>
                  </a:lnTo>
                  <a:lnTo>
                    <a:pt x="24" y="2"/>
                  </a:lnTo>
                  <a:lnTo>
                    <a:pt x="0" y="2"/>
                  </a:lnTo>
                  <a:lnTo>
                    <a:pt x="0" y="131"/>
                  </a:lnTo>
                  <a:lnTo>
                    <a:pt x="19" y="131"/>
                  </a:lnTo>
                  <a:lnTo>
                    <a:pt x="19" y="28"/>
                  </a:lnTo>
                  <a:lnTo>
                    <a:pt x="76" y="131"/>
                  </a:lnTo>
                  <a:lnTo>
                    <a:pt x="100" y="131"/>
                  </a:lnTo>
                  <a:close/>
                  <a:moveTo>
                    <a:pt x="250" y="131"/>
                  </a:moveTo>
                  <a:lnTo>
                    <a:pt x="194" y="2"/>
                  </a:lnTo>
                  <a:lnTo>
                    <a:pt x="176" y="2"/>
                  </a:lnTo>
                  <a:lnTo>
                    <a:pt x="120" y="131"/>
                  </a:lnTo>
                  <a:lnTo>
                    <a:pt x="140" y="131"/>
                  </a:lnTo>
                  <a:lnTo>
                    <a:pt x="153" y="98"/>
                  </a:lnTo>
                  <a:lnTo>
                    <a:pt x="216" y="98"/>
                  </a:lnTo>
                  <a:lnTo>
                    <a:pt x="230" y="131"/>
                  </a:lnTo>
                  <a:lnTo>
                    <a:pt x="250" y="131"/>
                  </a:lnTo>
                  <a:close/>
                  <a:moveTo>
                    <a:pt x="210" y="83"/>
                  </a:moveTo>
                  <a:lnTo>
                    <a:pt x="160" y="83"/>
                  </a:lnTo>
                  <a:lnTo>
                    <a:pt x="185" y="20"/>
                  </a:lnTo>
                  <a:lnTo>
                    <a:pt x="210" y="83"/>
                  </a:lnTo>
                  <a:close/>
                  <a:moveTo>
                    <a:pt x="342" y="18"/>
                  </a:moveTo>
                  <a:lnTo>
                    <a:pt x="342" y="2"/>
                  </a:lnTo>
                  <a:lnTo>
                    <a:pt x="245" y="2"/>
                  </a:lnTo>
                  <a:lnTo>
                    <a:pt x="245" y="18"/>
                  </a:lnTo>
                  <a:lnTo>
                    <a:pt x="284" y="18"/>
                  </a:lnTo>
                  <a:lnTo>
                    <a:pt x="284" y="131"/>
                  </a:lnTo>
                  <a:lnTo>
                    <a:pt x="303" y="131"/>
                  </a:lnTo>
                  <a:lnTo>
                    <a:pt x="303" y="18"/>
                  </a:lnTo>
                  <a:lnTo>
                    <a:pt x="342" y="18"/>
                  </a:lnTo>
                  <a:close/>
                  <a:moveTo>
                    <a:pt x="386" y="131"/>
                  </a:moveTo>
                  <a:lnTo>
                    <a:pt x="386" y="2"/>
                  </a:lnTo>
                  <a:lnTo>
                    <a:pt x="368" y="2"/>
                  </a:lnTo>
                  <a:lnTo>
                    <a:pt x="368" y="131"/>
                  </a:lnTo>
                  <a:lnTo>
                    <a:pt x="386" y="131"/>
                  </a:lnTo>
                  <a:close/>
                  <a:moveTo>
                    <a:pt x="538" y="67"/>
                  </a:moveTo>
                  <a:lnTo>
                    <a:pt x="537" y="60"/>
                  </a:lnTo>
                  <a:lnTo>
                    <a:pt x="537" y="53"/>
                  </a:lnTo>
                  <a:lnTo>
                    <a:pt x="535" y="46"/>
                  </a:lnTo>
                  <a:lnTo>
                    <a:pt x="534" y="40"/>
                  </a:lnTo>
                  <a:lnTo>
                    <a:pt x="531" y="35"/>
                  </a:lnTo>
                  <a:lnTo>
                    <a:pt x="529" y="29"/>
                  </a:lnTo>
                  <a:lnTo>
                    <a:pt x="526" y="24"/>
                  </a:lnTo>
                  <a:lnTo>
                    <a:pt x="522" y="19"/>
                  </a:lnTo>
                  <a:lnTo>
                    <a:pt x="518" y="15"/>
                  </a:lnTo>
                  <a:lnTo>
                    <a:pt x="513" y="11"/>
                  </a:lnTo>
                  <a:lnTo>
                    <a:pt x="508" y="8"/>
                  </a:lnTo>
                  <a:lnTo>
                    <a:pt x="502" y="5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3" y="0"/>
                  </a:lnTo>
                  <a:lnTo>
                    <a:pt x="476" y="0"/>
                  </a:lnTo>
                  <a:lnTo>
                    <a:pt x="469" y="0"/>
                  </a:lnTo>
                  <a:lnTo>
                    <a:pt x="462" y="1"/>
                  </a:lnTo>
                  <a:lnTo>
                    <a:pt x="456" y="3"/>
                  </a:lnTo>
                  <a:lnTo>
                    <a:pt x="450" y="5"/>
                  </a:lnTo>
                  <a:lnTo>
                    <a:pt x="444" y="8"/>
                  </a:lnTo>
                  <a:lnTo>
                    <a:pt x="439" y="11"/>
                  </a:lnTo>
                  <a:lnTo>
                    <a:pt x="435" y="15"/>
                  </a:lnTo>
                  <a:lnTo>
                    <a:pt x="430" y="19"/>
                  </a:lnTo>
                  <a:lnTo>
                    <a:pt x="427" y="24"/>
                  </a:lnTo>
                  <a:lnTo>
                    <a:pt x="423" y="29"/>
                  </a:lnTo>
                  <a:lnTo>
                    <a:pt x="421" y="35"/>
                  </a:lnTo>
                  <a:lnTo>
                    <a:pt x="419" y="40"/>
                  </a:lnTo>
                  <a:lnTo>
                    <a:pt x="417" y="46"/>
                  </a:lnTo>
                  <a:lnTo>
                    <a:pt x="416" y="53"/>
                  </a:lnTo>
                  <a:lnTo>
                    <a:pt x="415" y="60"/>
                  </a:lnTo>
                  <a:lnTo>
                    <a:pt x="415" y="67"/>
                  </a:lnTo>
                  <a:lnTo>
                    <a:pt x="415" y="74"/>
                  </a:lnTo>
                  <a:lnTo>
                    <a:pt x="416" y="80"/>
                  </a:lnTo>
                  <a:lnTo>
                    <a:pt x="417" y="87"/>
                  </a:lnTo>
                  <a:lnTo>
                    <a:pt x="419" y="93"/>
                  </a:lnTo>
                  <a:lnTo>
                    <a:pt x="421" y="99"/>
                  </a:lnTo>
                  <a:lnTo>
                    <a:pt x="423" y="104"/>
                  </a:lnTo>
                  <a:lnTo>
                    <a:pt x="427" y="109"/>
                  </a:lnTo>
                  <a:lnTo>
                    <a:pt x="430" y="114"/>
                  </a:lnTo>
                  <a:lnTo>
                    <a:pt x="435" y="118"/>
                  </a:lnTo>
                  <a:lnTo>
                    <a:pt x="439" y="122"/>
                  </a:lnTo>
                  <a:lnTo>
                    <a:pt x="444" y="126"/>
                  </a:lnTo>
                  <a:lnTo>
                    <a:pt x="450" y="128"/>
                  </a:lnTo>
                  <a:lnTo>
                    <a:pt x="456" y="130"/>
                  </a:lnTo>
                  <a:lnTo>
                    <a:pt x="462" y="132"/>
                  </a:lnTo>
                  <a:lnTo>
                    <a:pt x="469" y="133"/>
                  </a:lnTo>
                  <a:lnTo>
                    <a:pt x="476" y="133"/>
                  </a:lnTo>
                  <a:lnTo>
                    <a:pt x="483" y="133"/>
                  </a:lnTo>
                  <a:lnTo>
                    <a:pt x="490" y="132"/>
                  </a:lnTo>
                  <a:lnTo>
                    <a:pt x="496" y="130"/>
                  </a:lnTo>
                  <a:lnTo>
                    <a:pt x="502" y="128"/>
                  </a:lnTo>
                  <a:lnTo>
                    <a:pt x="508" y="126"/>
                  </a:lnTo>
                  <a:lnTo>
                    <a:pt x="513" y="122"/>
                  </a:lnTo>
                  <a:lnTo>
                    <a:pt x="518" y="118"/>
                  </a:lnTo>
                  <a:lnTo>
                    <a:pt x="522" y="114"/>
                  </a:lnTo>
                  <a:lnTo>
                    <a:pt x="526" y="109"/>
                  </a:lnTo>
                  <a:lnTo>
                    <a:pt x="529" y="104"/>
                  </a:lnTo>
                  <a:lnTo>
                    <a:pt x="531" y="98"/>
                  </a:lnTo>
                  <a:lnTo>
                    <a:pt x="534" y="93"/>
                  </a:lnTo>
                  <a:lnTo>
                    <a:pt x="535" y="87"/>
                  </a:lnTo>
                  <a:lnTo>
                    <a:pt x="537" y="80"/>
                  </a:lnTo>
                  <a:lnTo>
                    <a:pt x="537" y="74"/>
                  </a:lnTo>
                  <a:lnTo>
                    <a:pt x="538" y="67"/>
                  </a:lnTo>
                  <a:close/>
                  <a:moveTo>
                    <a:pt x="518" y="67"/>
                  </a:moveTo>
                  <a:lnTo>
                    <a:pt x="518" y="72"/>
                  </a:lnTo>
                  <a:lnTo>
                    <a:pt x="518" y="77"/>
                  </a:lnTo>
                  <a:lnTo>
                    <a:pt x="516" y="86"/>
                  </a:lnTo>
                  <a:lnTo>
                    <a:pt x="514" y="91"/>
                  </a:lnTo>
                  <a:lnTo>
                    <a:pt x="512" y="95"/>
                  </a:lnTo>
                  <a:lnTo>
                    <a:pt x="507" y="102"/>
                  </a:lnTo>
                  <a:lnTo>
                    <a:pt x="504" y="106"/>
                  </a:lnTo>
                  <a:lnTo>
                    <a:pt x="501" y="109"/>
                  </a:lnTo>
                  <a:lnTo>
                    <a:pt x="497" y="111"/>
                  </a:lnTo>
                  <a:lnTo>
                    <a:pt x="494" y="113"/>
                  </a:lnTo>
                  <a:lnTo>
                    <a:pt x="490" y="115"/>
                  </a:lnTo>
                  <a:lnTo>
                    <a:pt x="485" y="116"/>
                  </a:lnTo>
                  <a:lnTo>
                    <a:pt x="481" y="116"/>
                  </a:lnTo>
                  <a:lnTo>
                    <a:pt x="476" y="117"/>
                  </a:lnTo>
                  <a:lnTo>
                    <a:pt x="471" y="116"/>
                  </a:lnTo>
                  <a:lnTo>
                    <a:pt x="467" y="116"/>
                  </a:lnTo>
                  <a:lnTo>
                    <a:pt x="462" y="115"/>
                  </a:lnTo>
                  <a:lnTo>
                    <a:pt x="458" y="113"/>
                  </a:lnTo>
                  <a:lnTo>
                    <a:pt x="455" y="111"/>
                  </a:lnTo>
                  <a:lnTo>
                    <a:pt x="451" y="109"/>
                  </a:lnTo>
                  <a:lnTo>
                    <a:pt x="448" y="106"/>
                  </a:lnTo>
                  <a:lnTo>
                    <a:pt x="445" y="102"/>
                  </a:lnTo>
                  <a:lnTo>
                    <a:pt x="442" y="99"/>
                  </a:lnTo>
                  <a:lnTo>
                    <a:pt x="440" y="95"/>
                  </a:lnTo>
                  <a:lnTo>
                    <a:pt x="438" y="91"/>
                  </a:lnTo>
                  <a:lnTo>
                    <a:pt x="436" y="86"/>
                  </a:lnTo>
                  <a:lnTo>
                    <a:pt x="435" y="82"/>
                  </a:lnTo>
                  <a:lnTo>
                    <a:pt x="434" y="77"/>
                  </a:lnTo>
                  <a:lnTo>
                    <a:pt x="434" y="72"/>
                  </a:lnTo>
                  <a:lnTo>
                    <a:pt x="434" y="67"/>
                  </a:lnTo>
                  <a:lnTo>
                    <a:pt x="434" y="61"/>
                  </a:lnTo>
                  <a:lnTo>
                    <a:pt x="434" y="56"/>
                  </a:lnTo>
                  <a:lnTo>
                    <a:pt x="436" y="47"/>
                  </a:lnTo>
                  <a:lnTo>
                    <a:pt x="438" y="43"/>
                  </a:lnTo>
                  <a:lnTo>
                    <a:pt x="440" y="38"/>
                  </a:lnTo>
                  <a:lnTo>
                    <a:pt x="445" y="31"/>
                  </a:lnTo>
                  <a:lnTo>
                    <a:pt x="448" y="28"/>
                  </a:lnTo>
                  <a:lnTo>
                    <a:pt x="451" y="25"/>
                  </a:lnTo>
                  <a:lnTo>
                    <a:pt x="455" y="22"/>
                  </a:lnTo>
                  <a:lnTo>
                    <a:pt x="459" y="20"/>
                  </a:lnTo>
                  <a:lnTo>
                    <a:pt x="463" y="18"/>
                  </a:lnTo>
                  <a:lnTo>
                    <a:pt x="467" y="17"/>
                  </a:lnTo>
                  <a:lnTo>
                    <a:pt x="471" y="17"/>
                  </a:lnTo>
                  <a:lnTo>
                    <a:pt x="476" y="16"/>
                  </a:lnTo>
                  <a:lnTo>
                    <a:pt x="481" y="17"/>
                  </a:lnTo>
                  <a:lnTo>
                    <a:pt x="485" y="17"/>
                  </a:lnTo>
                  <a:lnTo>
                    <a:pt x="490" y="18"/>
                  </a:lnTo>
                  <a:lnTo>
                    <a:pt x="494" y="20"/>
                  </a:lnTo>
                  <a:lnTo>
                    <a:pt x="497" y="22"/>
                  </a:lnTo>
                  <a:lnTo>
                    <a:pt x="501" y="25"/>
                  </a:lnTo>
                  <a:lnTo>
                    <a:pt x="504" y="28"/>
                  </a:lnTo>
                  <a:lnTo>
                    <a:pt x="507" y="31"/>
                  </a:lnTo>
                  <a:lnTo>
                    <a:pt x="510" y="35"/>
                  </a:lnTo>
                  <a:lnTo>
                    <a:pt x="512" y="38"/>
                  </a:lnTo>
                  <a:lnTo>
                    <a:pt x="514" y="43"/>
                  </a:lnTo>
                  <a:lnTo>
                    <a:pt x="516" y="47"/>
                  </a:lnTo>
                  <a:lnTo>
                    <a:pt x="517" y="51"/>
                  </a:lnTo>
                  <a:lnTo>
                    <a:pt x="518" y="56"/>
                  </a:lnTo>
                  <a:lnTo>
                    <a:pt x="518" y="61"/>
                  </a:lnTo>
                  <a:lnTo>
                    <a:pt x="518" y="67"/>
                  </a:lnTo>
                  <a:close/>
                  <a:moveTo>
                    <a:pt x="666" y="131"/>
                  </a:moveTo>
                  <a:lnTo>
                    <a:pt x="666" y="2"/>
                  </a:lnTo>
                  <a:lnTo>
                    <a:pt x="647" y="2"/>
                  </a:lnTo>
                  <a:lnTo>
                    <a:pt x="647" y="105"/>
                  </a:lnTo>
                  <a:lnTo>
                    <a:pt x="646" y="105"/>
                  </a:lnTo>
                  <a:lnTo>
                    <a:pt x="591" y="2"/>
                  </a:lnTo>
                  <a:lnTo>
                    <a:pt x="566" y="2"/>
                  </a:lnTo>
                  <a:lnTo>
                    <a:pt x="566" y="131"/>
                  </a:lnTo>
                  <a:lnTo>
                    <a:pt x="585" y="131"/>
                  </a:lnTo>
                  <a:lnTo>
                    <a:pt x="585" y="28"/>
                  </a:lnTo>
                  <a:lnTo>
                    <a:pt x="586" y="28"/>
                  </a:lnTo>
                  <a:lnTo>
                    <a:pt x="642" y="131"/>
                  </a:lnTo>
                  <a:lnTo>
                    <a:pt x="666" y="131"/>
                  </a:lnTo>
                  <a:close/>
                  <a:moveTo>
                    <a:pt x="817" y="131"/>
                  </a:moveTo>
                  <a:lnTo>
                    <a:pt x="761" y="2"/>
                  </a:lnTo>
                  <a:lnTo>
                    <a:pt x="743" y="2"/>
                  </a:lnTo>
                  <a:lnTo>
                    <a:pt x="686" y="131"/>
                  </a:lnTo>
                  <a:lnTo>
                    <a:pt x="706" y="131"/>
                  </a:lnTo>
                  <a:lnTo>
                    <a:pt x="720" y="98"/>
                  </a:lnTo>
                  <a:lnTo>
                    <a:pt x="783" y="98"/>
                  </a:lnTo>
                  <a:lnTo>
                    <a:pt x="797" y="131"/>
                  </a:lnTo>
                  <a:lnTo>
                    <a:pt x="817" y="131"/>
                  </a:lnTo>
                  <a:close/>
                  <a:moveTo>
                    <a:pt x="778" y="83"/>
                  </a:moveTo>
                  <a:lnTo>
                    <a:pt x="726" y="83"/>
                  </a:lnTo>
                  <a:lnTo>
                    <a:pt x="752" y="20"/>
                  </a:lnTo>
                  <a:lnTo>
                    <a:pt x="778" y="83"/>
                  </a:lnTo>
                  <a:close/>
                  <a:moveTo>
                    <a:pt x="909" y="131"/>
                  </a:moveTo>
                  <a:lnTo>
                    <a:pt x="909" y="114"/>
                  </a:lnTo>
                  <a:lnTo>
                    <a:pt x="856" y="114"/>
                  </a:lnTo>
                  <a:lnTo>
                    <a:pt x="856" y="2"/>
                  </a:lnTo>
                  <a:lnTo>
                    <a:pt x="837" y="2"/>
                  </a:lnTo>
                  <a:lnTo>
                    <a:pt x="837" y="131"/>
                  </a:lnTo>
                  <a:lnTo>
                    <a:pt x="909" y="131"/>
                  </a:lnTo>
                  <a:close/>
                  <a:moveTo>
                    <a:pt x="1008" y="131"/>
                  </a:moveTo>
                  <a:lnTo>
                    <a:pt x="1008" y="2"/>
                  </a:lnTo>
                  <a:lnTo>
                    <a:pt x="990" y="2"/>
                  </a:lnTo>
                  <a:lnTo>
                    <a:pt x="990" y="131"/>
                  </a:lnTo>
                  <a:lnTo>
                    <a:pt x="1008" y="131"/>
                  </a:lnTo>
                  <a:close/>
                  <a:moveTo>
                    <a:pt x="1148" y="131"/>
                  </a:moveTo>
                  <a:lnTo>
                    <a:pt x="1148" y="2"/>
                  </a:lnTo>
                  <a:lnTo>
                    <a:pt x="1129" y="2"/>
                  </a:lnTo>
                  <a:lnTo>
                    <a:pt x="1129" y="105"/>
                  </a:lnTo>
                  <a:lnTo>
                    <a:pt x="1128" y="105"/>
                  </a:lnTo>
                  <a:lnTo>
                    <a:pt x="1072" y="2"/>
                  </a:lnTo>
                  <a:lnTo>
                    <a:pt x="1048" y="2"/>
                  </a:lnTo>
                  <a:lnTo>
                    <a:pt x="1048" y="131"/>
                  </a:lnTo>
                  <a:lnTo>
                    <a:pt x="1067" y="131"/>
                  </a:lnTo>
                  <a:lnTo>
                    <a:pt x="1067" y="28"/>
                  </a:lnTo>
                  <a:lnTo>
                    <a:pt x="1068" y="28"/>
                  </a:lnTo>
                  <a:lnTo>
                    <a:pt x="1124" y="131"/>
                  </a:lnTo>
                  <a:lnTo>
                    <a:pt x="1148" y="131"/>
                  </a:lnTo>
                  <a:close/>
                  <a:moveTo>
                    <a:pt x="1255" y="96"/>
                  </a:moveTo>
                  <a:lnTo>
                    <a:pt x="1254" y="92"/>
                  </a:lnTo>
                  <a:lnTo>
                    <a:pt x="1254" y="89"/>
                  </a:lnTo>
                  <a:lnTo>
                    <a:pt x="1254" y="87"/>
                  </a:lnTo>
                  <a:lnTo>
                    <a:pt x="1253" y="83"/>
                  </a:lnTo>
                  <a:lnTo>
                    <a:pt x="1251" y="79"/>
                  </a:lnTo>
                  <a:lnTo>
                    <a:pt x="1249" y="76"/>
                  </a:lnTo>
                  <a:lnTo>
                    <a:pt x="1247" y="72"/>
                  </a:lnTo>
                  <a:lnTo>
                    <a:pt x="1244" y="69"/>
                  </a:lnTo>
                  <a:lnTo>
                    <a:pt x="1240" y="66"/>
                  </a:lnTo>
                  <a:lnTo>
                    <a:pt x="1237" y="63"/>
                  </a:lnTo>
                  <a:lnTo>
                    <a:pt x="1231" y="60"/>
                  </a:lnTo>
                  <a:lnTo>
                    <a:pt x="1223" y="55"/>
                  </a:lnTo>
                  <a:lnTo>
                    <a:pt x="1214" y="50"/>
                  </a:lnTo>
                  <a:lnTo>
                    <a:pt x="1207" y="46"/>
                  </a:lnTo>
                  <a:lnTo>
                    <a:pt x="1205" y="44"/>
                  </a:lnTo>
                  <a:lnTo>
                    <a:pt x="1203" y="42"/>
                  </a:lnTo>
                  <a:lnTo>
                    <a:pt x="1200" y="38"/>
                  </a:lnTo>
                  <a:lnTo>
                    <a:pt x="1199" y="36"/>
                  </a:lnTo>
                  <a:lnTo>
                    <a:pt x="1199" y="35"/>
                  </a:lnTo>
                  <a:lnTo>
                    <a:pt x="1199" y="31"/>
                  </a:lnTo>
                  <a:lnTo>
                    <a:pt x="1201" y="28"/>
                  </a:lnTo>
                  <a:lnTo>
                    <a:pt x="1203" y="25"/>
                  </a:lnTo>
                  <a:lnTo>
                    <a:pt x="1205" y="22"/>
                  </a:lnTo>
                  <a:lnTo>
                    <a:pt x="1209" y="19"/>
                  </a:lnTo>
                  <a:lnTo>
                    <a:pt x="1212" y="17"/>
                  </a:lnTo>
                  <a:lnTo>
                    <a:pt x="1217" y="16"/>
                  </a:lnTo>
                  <a:lnTo>
                    <a:pt x="1221" y="16"/>
                  </a:lnTo>
                  <a:lnTo>
                    <a:pt x="1225" y="16"/>
                  </a:lnTo>
                  <a:lnTo>
                    <a:pt x="1231" y="18"/>
                  </a:lnTo>
                  <a:lnTo>
                    <a:pt x="1247" y="22"/>
                  </a:lnTo>
                  <a:lnTo>
                    <a:pt x="1250" y="4"/>
                  </a:lnTo>
                  <a:lnTo>
                    <a:pt x="1243" y="2"/>
                  </a:lnTo>
                  <a:lnTo>
                    <a:pt x="1235" y="1"/>
                  </a:lnTo>
                  <a:lnTo>
                    <a:pt x="1228" y="0"/>
                  </a:lnTo>
                  <a:lnTo>
                    <a:pt x="1221" y="0"/>
                  </a:lnTo>
                  <a:lnTo>
                    <a:pt x="1213" y="0"/>
                  </a:lnTo>
                  <a:lnTo>
                    <a:pt x="1210" y="1"/>
                  </a:lnTo>
                  <a:lnTo>
                    <a:pt x="1206" y="2"/>
                  </a:lnTo>
                  <a:lnTo>
                    <a:pt x="1203" y="3"/>
                  </a:lnTo>
                  <a:lnTo>
                    <a:pt x="1199" y="4"/>
                  </a:lnTo>
                  <a:lnTo>
                    <a:pt x="1196" y="6"/>
                  </a:lnTo>
                  <a:lnTo>
                    <a:pt x="1193" y="8"/>
                  </a:lnTo>
                  <a:lnTo>
                    <a:pt x="1190" y="11"/>
                  </a:lnTo>
                  <a:lnTo>
                    <a:pt x="1187" y="13"/>
                  </a:lnTo>
                  <a:lnTo>
                    <a:pt x="1185" y="16"/>
                  </a:lnTo>
                  <a:lnTo>
                    <a:pt x="1183" y="20"/>
                  </a:lnTo>
                  <a:lnTo>
                    <a:pt x="1182" y="23"/>
                  </a:lnTo>
                  <a:lnTo>
                    <a:pt x="1181" y="27"/>
                  </a:lnTo>
                  <a:lnTo>
                    <a:pt x="1180" y="30"/>
                  </a:lnTo>
                  <a:lnTo>
                    <a:pt x="1180" y="35"/>
                  </a:lnTo>
                  <a:lnTo>
                    <a:pt x="1180" y="39"/>
                  </a:lnTo>
                  <a:lnTo>
                    <a:pt x="1181" y="43"/>
                  </a:lnTo>
                  <a:lnTo>
                    <a:pt x="1183" y="48"/>
                  </a:lnTo>
                  <a:lnTo>
                    <a:pt x="1186" y="52"/>
                  </a:lnTo>
                  <a:lnTo>
                    <a:pt x="1189" y="56"/>
                  </a:lnTo>
                  <a:lnTo>
                    <a:pt x="1193" y="59"/>
                  </a:lnTo>
                  <a:lnTo>
                    <a:pt x="1198" y="63"/>
                  </a:lnTo>
                  <a:lnTo>
                    <a:pt x="1204" y="66"/>
                  </a:lnTo>
                  <a:lnTo>
                    <a:pt x="1218" y="73"/>
                  </a:lnTo>
                  <a:lnTo>
                    <a:pt x="1225" y="78"/>
                  </a:lnTo>
                  <a:lnTo>
                    <a:pt x="1228" y="80"/>
                  </a:lnTo>
                  <a:lnTo>
                    <a:pt x="1230" y="82"/>
                  </a:lnTo>
                  <a:lnTo>
                    <a:pt x="1232" y="86"/>
                  </a:lnTo>
                  <a:lnTo>
                    <a:pt x="1234" y="89"/>
                  </a:lnTo>
                  <a:lnTo>
                    <a:pt x="1235" y="92"/>
                  </a:lnTo>
                  <a:lnTo>
                    <a:pt x="1235" y="96"/>
                  </a:lnTo>
                  <a:lnTo>
                    <a:pt x="1235" y="100"/>
                  </a:lnTo>
                  <a:lnTo>
                    <a:pt x="1234" y="104"/>
                  </a:lnTo>
                  <a:lnTo>
                    <a:pt x="1231" y="108"/>
                  </a:lnTo>
                  <a:lnTo>
                    <a:pt x="1230" y="109"/>
                  </a:lnTo>
                  <a:lnTo>
                    <a:pt x="1228" y="111"/>
                  </a:lnTo>
                  <a:lnTo>
                    <a:pt x="1224" y="113"/>
                  </a:lnTo>
                  <a:lnTo>
                    <a:pt x="1219" y="115"/>
                  </a:lnTo>
                  <a:lnTo>
                    <a:pt x="1214" y="116"/>
                  </a:lnTo>
                  <a:lnTo>
                    <a:pt x="1208" y="117"/>
                  </a:lnTo>
                  <a:lnTo>
                    <a:pt x="1201" y="116"/>
                  </a:lnTo>
                  <a:lnTo>
                    <a:pt x="1195" y="115"/>
                  </a:lnTo>
                  <a:lnTo>
                    <a:pt x="1189" y="113"/>
                  </a:lnTo>
                  <a:lnTo>
                    <a:pt x="1184" y="110"/>
                  </a:lnTo>
                  <a:lnTo>
                    <a:pt x="1181" y="128"/>
                  </a:lnTo>
                  <a:lnTo>
                    <a:pt x="1190" y="131"/>
                  </a:lnTo>
                  <a:lnTo>
                    <a:pt x="1195" y="132"/>
                  </a:lnTo>
                  <a:lnTo>
                    <a:pt x="1200" y="133"/>
                  </a:lnTo>
                  <a:lnTo>
                    <a:pt x="1208" y="133"/>
                  </a:lnTo>
                  <a:lnTo>
                    <a:pt x="1217" y="133"/>
                  </a:lnTo>
                  <a:lnTo>
                    <a:pt x="1225" y="131"/>
                  </a:lnTo>
                  <a:lnTo>
                    <a:pt x="1232" y="129"/>
                  </a:lnTo>
                  <a:lnTo>
                    <a:pt x="1239" y="125"/>
                  </a:lnTo>
                  <a:lnTo>
                    <a:pt x="1243" y="122"/>
                  </a:lnTo>
                  <a:lnTo>
                    <a:pt x="1246" y="119"/>
                  </a:lnTo>
                  <a:lnTo>
                    <a:pt x="1249" y="116"/>
                  </a:lnTo>
                  <a:lnTo>
                    <a:pt x="1251" y="113"/>
                  </a:lnTo>
                  <a:lnTo>
                    <a:pt x="1252" y="109"/>
                  </a:lnTo>
                  <a:lnTo>
                    <a:pt x="1254" y="105"/>
                  </a:lnTo>
                  <a:lnTo>
                    <a:pt x="1254" y="101"/>
                  </a:lnTo>
                  <a:lnTo>
                    <a:pt x="1255" y="96"/>
                  </a:lnTo>
                  <a:close/>
                  <a:moveTo>
                    <a:pt x="1370" y="18"/>
                  </a:moveTo>
                  <a:lnTo>
                    <a:pt x="1370" y="2"/>
                  </a:lnTo>
                  <a:lnTo>
                    <a:pt x="1273" y="2"/>
                  </a:lnTo>
                  <a:lnTo>
                    <a:pt x="1273" y="18"/>
                  </a:lnTo>
                  <a:lnTo>
                    <a:pt x="1312" y="18"/>
                  </a:lnTo>
                  <a:lnTo>
                    <a:pt x="1312" y="131"/>
                  </a:lnTo>
                  <a:lnTo>
                    <a:pt x="1331" y="131"/>
                  </a:lnTo>
                  <a:lnTo>
                    <a:pt x="1331" y="18"/>
                  </a:lnTo>
                  <a:lnTo>
                    <a:pt x="1370" y="18"/>
                  </a:lnTo>
                  <a:close/>
                  <a:moveTo>
                    <a:pt x="1414" y="131"/>
                  </a:moveTo>
                  <a:lnTo>
                    <a:pt x="1414" y="2"/>
                  </a:lnTo>
                  <a:lnTo>
                    <a:pt x="1395" y="2"/>
                  </a:lnTo>
                  <a:lnTo>
                    <a:pt x="1395" y="131"/>
                  </a:lnTo>
                  <a:lnTo>
                    <a:pt x="1414" y="131"/>
                  </a:lnTo>
                  <a:close/>
                  <a:moveTo>
                    <a:pt x="1537" y="18"/>
                  </a:moveTo>
                  <a:lnTo>
                    <a:pt x="1537" y="2"/>
                  </a:lnTo>
                  <a:lnTo>
                    <a:pt x="1440" y="2"/>
                  </a:lnTo>
                  <a:lnTo>
                    <a:pt x="1440" y="18"/>
                  </a:lnTo>
                  <a:lnTo>
                    <a:pt x="1479" y="18"/>
                  </a:lnTo>
                  <a:lnTo>
                    <a:pt x="1479" y="131"/>
                  </a:lnTo>
                  <a:lnTo>
                    <a:pt x="1498" y="131"/>
                  </a:lnTo>
                  <a:lnTo>
                    <a:pt x="1498" y="18"/>
                  </a:lnTo>
                  <a:lnTo>
                    <a:pt x="1537" y="18"/>
                  </a:lnTo>
                  <a:close/>
                  <a:moveTo>
                    <a:pt x="1663" y="77"/>
                  </a:moveTo>
                  <a:lnTo>
                    <a:pt x="1663" y="2"/>
                  </a:lnTo>
                  <a:lnTo>
                    <a:pt x="1644" y="2"/>
                  </a:lnTo>
                  <a:lnTo>
                    <a:pt x="1644" y="81"/>
                  </a:lnTo>
                  <a:lnTo>
                    <a:pt x="1643" y="88"/>
                  </a:lnTo>
                  <a:lnTo>
                    <a:pt x="1643" y="92"/>
                  </a:lnTo>
                  <a:lnTo>
                    <a:pt x="1642" y="95"/>
                  </a:lnTo>
                  <a:lnTo>
                    <a:pt x="1641" y="98"/>
                  </a:lnTo>
                  <a:lnTo>
                    <a:pt x="1639" y="101"/>
                  </a:lnTo>
                  <a:lnTo>
                    <a:pt x="1636" y="106"/>
                  </a:lnTo>
                  <a:lnTo>
                    <a:pt x="1634" y="109"/>
                  </a:lnTo>
                  <a:lnTo>
                    <a:pt x="1632" y="111"/>
                  </a:lnTo>
                  <a:lnTo>
                    <a:pt x="1626" y="114"/>
                  </a:lnTo>
                  <a:lnTo>
                    <a:pt x="1620" y="116"/>
                  </a:lnTo>
                  <a:lnTo>
                    <a:pt x="1613" y="117"/>
                  </a:lnTo>
                  <a:lnTo>
                    <a:pt x="1606" y="116"/>
                  </a:lnTo>
                  <a:lnTo>
                    <a:pt x="1602" y="115"/>
                  </a:lnTo>
                  <a:lnTo>
                    <a:pt x="1599" y="114"/>
                  </a:lnTo>
                  <a:lnTo>
                    <a:pt x="1596" y="113"/>
                  </a:lnTo>
                  <a:lnTo>
                    <a:pt x="1594" y="111"/>
                  </a:lnTo>
                  <a:lnTo>
                    <a:pt x="1591" y="109"/>
                  </a:lnTo>
                  <a:lnTo>
                    <a:pt x="1589" y="106"/>
                  </a:lnTo>
                  <a:lnTo>
                    <a:pt x="1586" y="101"/>
                  </a:lnTo>
                  <a:lnTo>
                    <a:pt x="1583" y="95"/>
                  </a:lnTo>
                  <a:lnTo>
                    <a:pt x="1582" y="88"/>
                  </a:lnTo>
                  <a:lnTo>
                    <a:pt x="1582" y="81"/>
                  </a:lnTo>
                  <a:lnTo>
                    <a:pt x="1582" y="2"/>
                  </a:lnTo>
                  <a:lnTo>
                    <a:pt x="1563" y="2"/>
                  </a:lnTo>
                  <a:lnTo>
                    <a:pt x="1563" y="77"/>
                  </a:lnTo>
                  <a:lnTo>
                    <a:pt x="1563" y="83"/>
                  </a:lnTo>
                  <a:lnTo>
                    <a:pt x="1564" y="89"/>
                  </a:lnTo>
                  <a:lnTo>
                    <a:pt x="1566" y="99"/>
                  </a:lnTo>
                  <a:lnTo>
                    <a:pt x="1567" y="104"/>
                  </a:lnTo>
                  <a:lnTo>
                    <a:pt x="1569" y="108"/>
                  </a:lnTo>
                  <a:lnTo>
                    <a:pt x="1571" y="112"/>
                  </a:lnTo>
                  <a:lnTo>
                    <a:pt x="1574" y="116"/>
                  </a:lnTo>
                  <a:lnTo>
                    <a:pt x="1577" y="120"/>
                  </a:lnTo>
                  <a:lnTo>
                    <a:pt x="1581" y="123"/>
                  </a:lnTo>
                  <a:lnTo>
                    <a:pt x="1585" y="126"/>
                  </a:lnTo>
                  <a:lnTo>
                    <a:pt x="1590" y="129"/>
                  </a:lnTo>
                  <a:lnTo>
                    <a:pt x="1595" y="131"/>
                  </a:lnTo>
                  <a:lnTo>
                    <a:pt x="1601" y="132"/>
                  </a:lnTo>
                  <a:lnTo>
                    <a:pt x="1606" y="133"/>
                  </a:lnTo>
                  <a:lnTo>
                    <a:pt x="1613" y="133"/>
                  </a:lnTo>
                  <a:lnTo>
                    <a:pt x="1619" y="133"/>
                  </a:lnTo>
                  <a:lnTo>
                    <a:pt x="1625" y="132"/>
                  </a:lnTo>
                  <a:lnTo>
                    <a:pt x="1630" y="131"/>
                  </a:lnTo>
                  <a:lnTo>
                    <a:pt x="1635" y="129"/>
                  </a:lnTo>
                  <a:lnTo>
                    <a:pt x="1640" y="126"/>
                  </a:lnTo>
                  <a:lnTo>
                    <a:pt x="1644" y="123"/>
                  </a:lnTo>
                  <a:lnTo>
                    <a:pt x="1648" y="120"/>
                  </a:lnTo>
                  <a:lnTo>
                    <a:pt x="1652" y="116"/>
                  </a:lnTo>
                  <a:lnTo>
                    <a:pt x="1654" y="112"/>
                  </a:lnTo>
                  <a:lnTo>
                    <a:pt x="1656" y="108"/>
                  </a:lnTo>
                  <a:lnTo>
                    <a:pt x="1658" y="104"/>
                  </a:lnTo>
                  <a:lnTo>
                    <a:pt x="1660" y="99"/>
                  </a:lnTo>
                  <a:lnTo>
                    <a:pt x="1661" y="94"/>
                  </a:lnTo>
                  <a:lnTo>
                    <a:pt x="1662" y="89"/>
                  </a:lnTo>
                  <a:lnTo>
                    <a:pt x="1662" y="83"/>
                  </a:lnTo>
                  <a:lnTo>
                    <a:pt x="1663" y="77"/>
                  </a:lnTo>
                  <a:close/>
                  <a:moveTo>
                    <a:pt x="1786" y="18"/>
                  </a:moveTo>
                  <a:lnTo>
                    <a:pt x="1786" y="2"/>
                  </a:lnTo>
                  <a:lnTo>
                    <a:pt x="1689" y="2"/>
                  </a:lnTo>
                  <a:lnTo>
                    <a:pt x="1689" y="18"/>
                  </a:lnTo>
                  <a:lnTo>
                    <a:pt x="1728" y="18"/>
                  </a:lnTo>
                  <a:lnTo>
                    <a:pt x="1728" y="131"/>
                  </a:lnTo>
                  <a:lnTo>
                    <a:pt x="1747" y="131"/>
                  </a:lnTo>
                  <a:lnTo>
                    <a:pt x="1747" y="18"/>
                  </a:lnTo>
                  <a:lnTo>
                    <a:pt x="1786" y="18"/>
                  </a:lnTo>
                  <a:close/>
                  <a:moveTo>
                    <a:pt x="1885" y="18"/>
                  </a:moveTo>
                  <a:lnTo>
                    <a:pt x="1885" y="2"/>
                  </a:lnTo>
                  <a:lnTo>
                    <a:pt x="1813" y="2"/>
                  </a:lnTo>
                  <a:lnTo>
                    <a:pt x="1813" y="131"/>
                  </a:lnTo>
                  <a:lnTo>
                    <a:pt x="1885" y="131"/>
                  </a:lnTo>
                  <a:lnTo>
                    <a:pt x="1885" y="114"/>
                  </a:lnTo>
                  <a:lnTo>
                    <a:pt x="1831" y="114"/>
                  </a:lnTo>
                  <a:lnTo>
                    <a:pt x="1831" y="72"/>
                  </a:lnTo>
                  <a:lnTo>
                    <a:pt x="1880" y="72"/>
                  </a:lnTo>
                  <a:lnTo>
                    <a:pt x="1880" y="56"/>
                  </a:lnTo>
                  <a:lnTo>
                    <a:pt x="1831" y="56"/>
                  </a:lnTo>
                  <a:lnTo>
                    <a:pt x="1831" y="18"/>
                  </a:lnTo>
                  <a:lnTo>
                    <a:pt x="1885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1384-0D39-4232-808A-D7374FFEB6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32240" y="568440"/>
            <a:ext cx="3668400" cy="29494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opasnet.org/" TargetMode="External"/><Relationship Id="rId2" Type="http://schemas.openxmlformats.org/officeDocument/2006/relationships/hyperlink" Target="http://en.opasnet.org/w/BIOHER_assessment" TargetMode="External"/><Relationship Id="rId3" Type="http://schemas.openxmlformats.org/officeDocument/2006/relationships/hyperlink" Target="http://fi.opasnet.org/fi/Tiedosto:Ilmastonmuutospolitiikat_ja_terve_kaupunki.ppt" TargetMode="External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opasnet.org/w/CO2_emissions_from_house_stock_heating_in_Finland" TargetMode="External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868640"/>
            <a:ext cx="8207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Ilmastonmuutospolitiikat ja </a:t>
            </a:r>
            <a:br>
              <a:rPr sz="3400"/>
            </a:b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terve kaupunki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02920" y="5661000"/>
            <a:ext cx="6504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ni Tuomisto, akatemiatutk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L, Ympäristöterveyden os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Bioher-arvioint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7bc143"/>
                </a:solidFill>
                <a:latin typeface="Arial"/>
              </a:rPr>
              <a:t>Vaikutusarviointeja päätöksenteon tueksi: Bioher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81612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Lisätietoj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: </a:t>
            </a:r>
            <a:r>
              <a:rPr b="0" lang="fi-FI" sz="2600" spc="-1" strike="noStrike" u="sng">
                <a:solidFill>
                  <a:srgbClr val="c1df63"/>
                </a:solidFill>
                <a:uFillTx/>
                <a:latin typeface="Arial"/>
                <a:hlinkClick r:id="rId1"/>
              </a:rPr>
              <a:t>http://en.opasnet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Bioher-arviointi: </a:t>
            </a:r>
            <a:r>
              <a:rPr b="0" lang="en-US" sz="2600" spc="-1" strike="noStrike" u="sng">
                <a:solidFill>
                  <a:srgbClr val="c1df63"/>
                </a:solidFill>
                <a:uFillTx/>
                <a:latin typeface="Arial"/>
                <a:hlinkClick r:id="rId2"/>
              </a:rPr>
              <a:t>http://en.opasnet.org/w/BIOHER_assess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ämä esitys: </a:t>
            </a:r>
            <a:r>
              <a:rPr b="0" lang="en-US" sz="2600" spc="-1" strike="noStrike" u="sng">
                <a:solidFill>
                  <a:srgbClr val="c1df63"/>
                </a:solidFill>
                <a:uFillTx/>
                <a:latin typeface="Arial"/>
                <a:hlinkClick r:id="rId3"/>
              </a:rPr>
              <a:t>http://fi.opasnet.org/fi/Tiedosto:Ilmastonmuutospolitiikat_ja_terve_kaupunki.pp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hdessä tekeminen – jakaminen – muilta oppim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7bc143"/>
                </a:solidFill>
                <a:latin typeface="Arial"/>
              </a:rPr>
              <a:t>Ei vain äärioloja: ilmastonmuutoksen vaikutusketjuja terveyteen. </a:t>
            </a:r>
            <a:r>
              <a:rPr b="1" lang="en-GB" sz="2000" spc="-1" strike="noStrike">
                <a:solidFill>
                  <a:srgbClr val="7bc143"/>
                </a:solidFill>
                <a:latin typeface="Arial"/>
              </a:rPr>
              <a:t>Suotuisat olot ovat eduksi.</a:t>
            </a:r>
            <a:endParaRPr b="1" lang="en-US" sz="2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51640" y="6021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IPCC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87280" y="1308240"/>
            <a:ext cx="66247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7280" y="43920"/>
            <a:ext cx="714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xcess deaths in France during a heat wave in 2003 </a:t>
            </a:r>
            <a:r>
              <a:rPr b="1" lang="en-US" sz="1800" spc="-1" strike="noStrike">
                <a:solidFill>
                  <a:srgbClr val="7bc143"/>
                </a:solidFill>
                <a:latin typeface="Arial"/>
              </a:rPr>
              <a:t>Source: IPCC 2007</a:t>
            </a:r>
            <a:endParaRPr b="1" lang="en-US" sz="18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646280"/>
            <a:ext cx="4176720" cy="3965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714920" y="1549440"/>
            <a:ext cx="417816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eesi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Järkevä ilmastopolitiikka edellyttää monien kytkentöjen ymmärtämistä oike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uri osa ilmastonmuutosta kiihdyttävästä tai hillitsevästä toiminnasta tapahtuu kaupunge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uri osa elinympäristön terveellisyyteen liittyvistä asioista on kaupunge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äillä tekijöillä on vahvoja keskinäisiä kytkentöj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yös sopeutumispolitiikat kytkeytyvät ilmastonmuutoksen hillintää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upunkien yhteistyömahdollisuuksissa on vielä paljon saavuttamattomia synergiaetuj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asvihuonekaasujen lähteit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ähkön ja lämmön tuota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iiken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eollisuus ja rakentam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416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9280" y="6237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ähde: Tilastokeskus, </a:t>
            </a:r>
            <a:r>
              <a:rPr b="0" lang="fi-FI" sz="1800" spc="-1" strike="noStrike" u="sng">
                <a:solidFill>
                  <a:srgbClr val="c1df63"/>
                </a:solidFill>
                <a:uFillTx/>
                <a:latin typeface="Arial"/>
                <a:hlinkClick r:id="rId2"/>
              </a:rPr>
              <a:t>Opas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7bc143"/>
                </a:solidFill>
                <a:latin typeface="Arial"/>
              </a:rPr>
              <a:t>Tärkeimmät ympäristöterveysongelmat Euroopassa – ja Suomessa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ienhiukkas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e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ad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7416720" cy="4964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524720" y="472428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ähde: EBoDE-projekti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ienhiukkasten lähteit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uosien 2000 ja 2020 liikenteen ja puun pienpolton PM2.5 päästöt (tonnia/a) Suomessa sekä prosenttiosuus koko Suomen päästöistä. Lähde: Piltti-loppuraportti, 201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53600" y="2007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2349360"/>
          <a:ext cx="7921440" cy="3749760"/>
        </p:xfrm>
        <a:graphic>
          <a:graphicData uri="http://schemas.openxmlformats.org/drawingml/2006/table">
            <a:tbl>
              <a:tblPr/>
              <a:tblGrid>
                <a:gridCol w="4093920"/>
                <a:gridCol w="1913040"/>
                <a:gridCol w="1914480"/>
              </a:tblGrid>
              <a:tr h="87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un pienpoltt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80 (23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70 (2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ikenteen pakokaasu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0 (13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 (1.4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ikenteen pöly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0 (1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0 (16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ut ihmisperäiset lähtee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400 (54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200 (58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hteensä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Ympäristöterveys ja ilmastopolitiikka: win-win vai lose-lose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Ilmastopolitiikkaa kaupungeiss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ukolämmön laajentaminen (PM, CO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ukolämmön polttoainevalinta (CO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avoituspolitiikka ja kaupunkirakenne (CO2, P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iikenteen autoriippuvuus (CO2, P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vyen liikenteen mahdollisuudet (liikunta, P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oukkoliikenteen toimivuus (PM, CO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uistot ja muut viilentävät alueet (liikunta, lämpö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orjausrakentamisen neuvonta ja tu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nvaihtojärjestelmät (PM, CO2, lämp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Kaupunkien lämpösaarekkeet</a:t>
            </a:r>
            <a:br>
              <a:rPr sz="3400"/>
            </a:br>
            <a:r>
              <a:rPr b="1" lang="en-GB" sz="1600" spc="-1" strike="noStrike">
                <a:solidFill>
                  <a:srgbClr val="7bc143"/>
                </a:solidFill>
                <a:latin typeface="Arial"/>
              </a:rPr>
              <a:t>Lähde: Climate change impacts report USA 2009</a:t>
            </a:r>
            <a:endParaRPr b="1" lang="en-US" sz="16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920" y="1125360"/>
            <a:ext cx="6912000" cy="5000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093080" y="1052640"/>
            <a:ext cx="1726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7bc143"/>
                </a:solidFill>
                <a:latin typeface="Arial"/>
              </a:rPr>
              <a:t>Osa kaupungista voi olla jopa 6 °C lämpimämpi kuin ympäröivä maaseu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7bc143"/>
                </a:solidFill>
                <a:latin typeface="Arial"/>
              </a:rPr>
              <a:t>Energian-tuota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7bc143"/>
                </a:solidFill>
                <a:latin typeface="Arial"/>
              </a:rPr>
              <a:t>Asfaltti sitoo lämpö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7bc143"/>
                </a:solidFill>
                <a:latin typeface="Arial"/>
              </a:rPr>
              <a:t>Vähemmän tu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7bc143"/>
                </a:solidFill>
                <a:latin typeface="Arial"/>
              </a:rPr>
              <a:t>Vähemmän kasvillisuu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don jakaminen keskeist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amat kysymykset ja vaihtoehdot toistuvat kaupungista toiseen pienin muunnelm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upungit voisivat arvioida hyötyjä ja haittoja yhdessä jakamalla tieto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oukkoyhteistyön voima toimisi myös kaupunkien kesken, ei vain Facebook-ryhmissä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siat etenevät hitaasti, ellei tiedon jakamista muiden käyttöön oteta nimenomaiseksi päämääräk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2:12:30Z</dcterms:created>
  <dc:creator>ktluser</dc:creator>
  <dc:description/>
  <dc:language>en-US</dc:language>
  <cp:lastModifiedBy>ktluser</cp:lastModifiedBy>
  <dcterms:modified xsi:type="dcterms:W3CDTF">2010-04-07T09:35:10Z</dcterms:modified>
  <cp:revision>90</cp:revision>
  <dc:subject/>
  <dc:title>Rotaryklubit</dc:title>
</cp:coreProperties>
</file>